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10D-C893-4D25-8995-981F1BDE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8BF7-8B5A-4DD7-BD09-5EA7E958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8BF1B-31A7-4800-AAF3-916F9F2D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C4780-B28B-4032-BE6C-F65DA06F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37CFD-CC35-4654-A8A0-FFF1C77A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20B0E-D2EE-480B-A1A4-6B6FC3F6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282E9-36BF-4FBD-A990-23AC2ACA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BC8AC-1581-47C2-9E09-021AC7A6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E42E5-D420-4D50-840F-D20CA488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D147C-5C38-4E6C-9FB0-2CF3EED1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BA248-EBCA-4B5B-B658-03B13910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2096E-60DA-41E8-AE9E-FF2FA2AC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0BBE-77B3-4DA2-89D3-6B5F379E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3CF21-9090-4629-A7DD-307387BE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56BB4-3515-477B-A387-B280BB06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12748-7855-49F3-B496-24A3AC34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00E4D-F3FB-4D41-B078-806B8E61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BA9B4-6B12-4633-9C28-4526CC73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56CE5-5461-4128-84AE-7DCC4247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57092-9528-40F2-80EC-6C961DD5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28BBE-260F-48DF-B0B8-49E002F6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F4F5C-88D6-4193-8ADE-BB89D213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CD3C3-4D9A-40C8-BEE1-068F683E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854-9F85-4CE1-BF50-EEAE7E3D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A4050-D2AC-4866-A208-CC3AA448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AF6C7-3C44-439E-93D4-F64127DBC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09D60-2ADF-4F1E-8200-9CA356C2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9C2C2-A94A-4DF4-BF9A-A8E8CDDE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039B6-A1AA-4057-AC86-F6EC761B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43ABA-7674-419D-89AF-DF969E3F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ABE91-F864-4A33-BEDC-235582CD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84D4B-5C39-4B5A-A3A6-CD6B6ECF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17F5E-E282-4513-A3F0-5C8BFC44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7D6D6-636B-4F4D-A7D8-7A896B65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0222-2049-4F6E-8B20-B88ABB57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FBBC5-D4BE-467E-A162-0130F3D8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64589-2060-4E12-99BD-C7271EB7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03E30-BFCD-4784-9EE8-358FB549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AC6A8-5DB5-4BE0-8023-60B39B66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A8FFE-C3C6-4B76-9F55-6FAF658A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E70DF-4EC2-4134-BD8A-28E41EBA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1C0A6-94DF-49EB-A12F-2BF19686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74020-C01F-45D0-A2E7-995105B3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3F296-3027-40C5-8DB3-031A7BF3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5C139-7552-482B-8163-06096A3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9EDA-0A2E-44B2-81D9-E839930A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91359-8A20-4FDF-84A1-79B59E03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79739-18B7-4622-8F59-FA422050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6D796-82F3-4F3A-B545-EB564F61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77BDE-B4E8-4B3E-909D-39A3771F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4F52E-5A09-48A4-BE61-0C1F92F3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A19D-DB74-4D10-9AB3-1AC94532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7127-2B86-43F4-8AE3-57F62437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B3D5-7F07-4F1D-B84A-E834371E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9953-2429-42E8-8E4E-5A3572BB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2036-E5C7-4BB9-8846-5B6FBC8C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0B8-BDE6-48CB-A508-759F4EEC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BA8C-7D67-4147-951F-0808FE2A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8B05-1017-4C0E-8625-0995EB94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8083-AA75-4596-AFD4-FDCB26C9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F6F7-7066-4EFF-B8C1-FC7ED16D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34C4-122A-48F0-B827-6C05EEA1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36BB-DC5A-4B0B-8E2B-A29FC5A0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81C8-B3B1-4632-8E22-71021298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8CEA6-4D4A-465B-A7DF-3BECA21D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EEEF-CA05-4486-8B1D-AC453F07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318F-061E-4E00-8299-00C3AD84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291-CF41-44F3-91CF-CB58B512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E2652-1255-4A13-AA08-1597525C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FE7A-035E-4E50-9ED2-C5FA13F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18EB7-5A31-4952-9476-2CCC761A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EEC32-0B8C-43EE-9202-1C7BA9AF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83AF-3FAD-4EEB-81D2-BD8603D9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F11A-F806-4147-AA6A-AB3BBD02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21A0C-6AAD-4570-817D-958E3E51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1DF08-D4D5-433F-B01D-CCDD7410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5734F-8828-48A0-BDDE-D2ACE897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A6F5-4DD3-41EB-A866-B0DE9159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0C4-CF18-419B-83C5-4105B821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93AC6-49AA-4039-BA9B-08A3A92C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73A7E-6433-4C3C-BF5B-93C6617A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19536-272D-42D2-BF81-0D9D8A0B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C924-C4C6-493E-9D73-427C9343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76FCC-4A19-49C3-AB47-D24A79B9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E979A-6694-492F-9616-0D1A63CA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DD2D3-DDC6-49AA-9927-06633855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BD6DE-4B00-4F4D-80B5-A91C3F2A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69898-D225-416D-A46A-D57B2192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3D80E-1916-4BAC-8590-35AB8007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2FC-6810-4CBE-8E74-D30277FD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4B53A-9396-4376-80C6-9825596B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60784-8747-443E-B4D1-DE0E763A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9C18-5FEC-4A1C-8ACA-A9629D95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19424-7C64-43CC-8513-1AF8DEF2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D2F24-682E-4BE0-BF74-3D82DC24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11C88-7CED-41FF-93A9-6202E659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EE5CF-F503-4D98-AE73-73258750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6FC54-BAB3-496F-8506-DAF2588A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C6A88-CA89-4E46-B93F-BB2E776A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DAC94-8348-4C01-BC47-972CA00C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F0A-DCB8-42EE-B2DB-1F0A3C6D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2E5D6-E6C5-4E60-A5E1-57D6F212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EDD0D-5962-4D06-8FC7-439EE10E6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9D203-A8BE-4DBF-99F0-C9DB2822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96F63-B7B6-403A-BE3F-4FBBC6E1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B67C6-4DCC-400A-B1D5-1E76C993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BD4C5-AE75-4D0D-A80C-D0801237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1E52A-A5F0-41ED-BDA2-4A5E3C06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E95DA-98FC-4BAA-B58B-AACDAAC5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AA38B-B35C-4A5F-AE1D-596E45BE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C80C2-E239-4422-AABC-9133ACEB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661-771F-4D2B-BC89-49A4E172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6AD24-72F6-45F7-AA2C-A911381D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3C77E-FE39-4EB3-B87D-F9699623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58E59-EDF9-4A60-A589-65B30488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00627-31F5-489D-86F9-15DE620F0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60FD1-F43C-46AF-B0C5-B2A2CE8B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63699-5C17-431E-BA72-CA741104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C1AD7-A546-4F7C-ACFD-7311E0A3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4C853-2097-4ECE-9359-284E47AD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0C0F2-26D3-4681-B8E5-23DB40DA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A9A8A-161D-4EBA-9F4F-76B018B4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371-2A0D-4B17-83A2-DAD90A2F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6F2AE-E43E-4095-B689-AB9AD55E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D9D0D-17F6-44BE-A1F4-11D32CFA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3F410-18FB-4413-9FAB-7C0DD0C4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414AA-957A-4EEA-912E-4AE81E44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E2F97-176F-4A4C-A819-1466F598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4F13F-F170-4C62-818D-7CDC79B1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16D6C-9457-4232-BD8D-6B6BF38E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7101A-E52D-4EC9-A118-C2F52E9A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24A36-344B-4983-B31E-814C53E9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AB9AF-C808-4342-BD3B-E75D254F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342-064B-4B96-BDAE-519FECAC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7DDF8-CD12-4C04-9D76-9DBB72EA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6D28E-0112-4810-BC17-B9E9DFEE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5A211-3F33-40DA-84BE-B5AD84EE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B2031-9270-434E-8C7D-DD801415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B33AC-0255-4411-8014-8E6E4EA4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AB27C-F93E-4984-98BC-12E10BD4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97DBC-707B-4CC9-B0CE-A28FF20B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1CD85-08E9-455B-94D4-E23B1568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E8BF3-3AC3-4346-9769-727514A1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9FA88-E3F3-4574-864C-8C858975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3723-6C89-4977-8B07-B14E5B79580C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BC2F-D98A-4436-959E-75CE29A957A8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0CF6-3C99-4024-88B9-AEA29CE21FD4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BF53-F058-4A76-A832-854071062F51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FC19-DD70-46D4-82E3-656AFF786D31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FB9E-CE83-4FAD-BF2E-5BD164AF810D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04C3-9A3C-477D-9BB8-612B2B7432A5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173E-76D2-4639-B04C-FC774ECEC6A6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2356-CD08-4F07-8D60-4D2A551854BD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EA4D-532F-4AC9-8484-DC53FFF5CBBE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6FB7-514C-4A2F-81B2-F534579A6B5D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F7D0-F968-4D4B-8411-B55CAB6F11C4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14240" y="142884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9f2936"/>
                </a:solidFill>
                <a:latin typeface="Verdana"/>
              </a:rPr>
              <a:t>Capítulo 5</a:t>
            </a:r>
            <a:br>
              <a:rPr sz="4100"/>
            </a:br>
            <a:br>
              <a:rPr sz="4100"/>
            </a:br>
            <a:r>
              <a:rPr b="1" lang="es-ES" sz="4100" spc="-1" strike="noStrike">
                <a:solidFill>
                  <a:srgbClr val="ff8d3e"/>
                </a:solidFill>
                <a:latin typeface="Verdana"/>
              </a:rPr>
              <a:t>Optimización y Monitorización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ÍNDICE CAPITULO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9766f"/>
                </a:solidFill>
                <a:latin typeface="Verdana"/>
              </a:rPr>
              <a:t>Índices, definición y tipo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9766f"/>
                </a:solidFill>
                <a:latin typeface="Verdana"/>
              </a:rPr>
              <a:t>Optimización SQ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79766f"/>
                </a:solidFill>
                <a:latin typeface="Verdana"/>
              </a:rPr>
              <a:t>Diseñ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79766f"/>
                </a:solidFill>
                <a:latin typeface="Verdana"/>
              </a:rPr>
              <a:t>Consult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79766f"/>
                </a:solidFill>
                <a:latin typeface="Verdana"/>
              </a:rPr>
              <a:t>Otras instruc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9766f"/>
                </a:solidFill>
                <a:latin typeface="Verdana"/>
              </a:rPr>
              <a:t>Optimización del servid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79766f"/>
                </a:solidFill>
                <a:latin typeface="Verdana"/>
              </a:rPr>
              <a:t>Almacenamiento y motor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79766f"/>
                </a:solidFill>
                <a:latin typeface="Verdana"/>
              </a:rPr>
              <a:t>Memo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79766f"/>
                </a:solidFill>
                <a:latin typeface="Verdana"/>
              </a:rPr>
              <a:t>Rendimien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50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4" dur="1" fill="hold"/>
                                  <p:tgtEl>
                                    <p:spTgt spid="50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5" dur="1" fill="hold"/>
                                  <p:tgtEl>
                                    <p:spTgt spid="50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6" dur="1" fill="hold"/>
                                  <p:tgtEl>
                                    <p:spTgt spid="508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3 Rectángulo"/>
          <p:cNvSpPr/>
          <p:nvPr/>
        </p:nvSpPr>
        <p:spPr>
          <a:xfrm>
            <a:off x="642960" y="1000080"/>
            <a:ext cx="7929720" cy="12859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500040" y="35676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CONCEPTOS ÍND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-Estructuras de datos o ficheros que aceleran el acceso a los datos en las tablas de nuestras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-Contienen el valor de una fila y su dirección física en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79766f"/>
                </a:solidFill>
                <a:latin typeface="Verdana"/>
              </a:rPr>
              <a:t>TIP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Parcia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Multicolum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Secundarios/Clust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79766f"/>
                </a:solidFill>
                <a:latin typeface="Verdana"/>
              </a:rPr>
              <a:t>Estructu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B-tre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Has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lnSpc>
                <a:spcPct val="80000"/>
              </a:lnSpc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R-tre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4 Conector recto"/>
          <p:cNvSpPr/>
          <p:nvPr/>
        </p:nvSpPr>
        <p:spPr>
          <a:xfrm>
            <a:off x="2214720" y="857160"/>
            <a:ext cx="50720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1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1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1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511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96" dur="1" fill="hold"/>
                                  <p:tgtEl>
                                    <p:spTgt spid="511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97" dur="1" fill="hold"/>
                                  <p:tgtEl>
                                    <p:spTgt spid="511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98" dur="1" fill="hold"/>
                                  <p:tgtEl>
                                    <p:spTgt spid="511">
                                      <p:txEl>
                                        <p:pRg st="18" end="1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3 Rectángulo"/>
          <p:cNvSpPr/>
          <p:nvPr/>
        </p:nvSpPr>
        <p:spPr>
          <a:xfrm>
            <a:off x="642960" y="1000080"/>
            <a:ext cx="7929720" cy="12859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00040" y="35676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ÍNDICES en MySQ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Existen varios tipos según el tipo de datos y si los campos forman o no una cla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-Son diferentes para cada motor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Unique: sobre claves secundari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Primary: sobre la clave prima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Fulltext: de tipo texto (text, char o varcha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Spatial: para objetos geométric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64960">
              <a:spcBef>
                <a:spcPts val="249"/>
              </a:spcBef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4 Conector recto"/>
          <p:cNvSpPr/>
          <p:nvPr/>
        </p:nvSpPr>
        <p:spPr>
          <a:xfrm>
            <a:off x="2143080" y="9288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51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COMANDOS GESTIÓN DE ÍND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CREATE INDE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766f"/>
                </a:solidFill>
                <a:latin typeface="Courier New"/>
                <a:ea typeface="Courier New"/>
              </a:rPr>
              <a:t>CREATE [UNIQUE|FULLTEXT|SPATIAL] INDEX index_na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766f"/>
                </a:solidFill>
                <a:latin typeface="Courier New"/>
                <a:ea typeface="Courier New"/>
              </a:rPr>
              <a:t>[index_type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766f"/>
                </a:solidFill>
                <a:latin typeface="Courier New"/>
                <a:ea typeface="Courier New"/>
              </a:rPr>
              <a:t>ON tbl_name (index_col_name,..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766f"/>
                </a:solidFill>
                <a:latin typeface="Courier New"/>
                <a:ea typeface="Courier New"/>
              </a:rPr>
              <a:t>[index_type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SHOW INDE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DROP INDE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ALTER TABL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766f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766f"/>
                </a:solidFill>
                <a:latin typeface="Courier New"/>
                <a:ea typeface="Courier New"/>
              </a:rPr>
              <a:t>ALTER TABLE cliente ADD INDEX nombre USING BTR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5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51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89" dur="1" fill="hold"/>
                                  <p:tgtEl>
                                    <p:spTgt spid="516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90" dur="1" fill="hold"/>
                                  <p:tgtEl>
                                    <p:spTgt spid="516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500040" y="49968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8000"/>
          </a:bodyPr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OPTIMIZACIÓN EN MYSQL 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4 Conector recto"/>
          <p:cNvSpPr/>
          <p:nvPr/>
        </p:nvSpPr>
        <p:spPr>
          <a:xfrm>
            <a:off x="2143080" y="1214280"/>
            <a:ext cx="50720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8 CuadroTexto"/>
          <p:cNvSpPr/>
          <p:nvPr/>
        </p:nvSpPr>
        <p:spPr>
          <a:xfrm>
            <a:off x="642960" y="1643040"/>
            <a:ext cx="850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A  la hora de optimizar distinguiremos dos asp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El código SQL que determina la eficiencia de nuestras operaciones sobre los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El funcionamiento del servidor como programa que presta un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1" dur="1" fill="hold"/>
                                  <p:tgtEl>
                                    <p:spTgt spid="5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500040" y="500040"/>
            <a:ext cx="8183520" cy="571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OPTIMIZACIÓN DE SQL 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4 Conector recto"/>
          <p:cNvSpPr/>
          <p:nvPr/>
        </p:nvSpPr>
        <p:spPr>
          <a:xfrm>
            <a:off x="2071800" y="107172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8 CuadroTexto"/>
          <p:cNvSpPr/>
          <p:nvPr/>
        </p:nvSpPr>
        <p:spPr>
          <a:xfrm>
            <a:off x="642960" y="1643040"/>
            <a:ext cx="85010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Optimización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Funcionamiento del proceso de consu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Optimización de consultas e í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0760">
              <a:lnSpc>
                <a:spcPct val="100000"/>
              </a:lnSpc>
              <a:buClr>
                <a:srgbClr val="9f2936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Optimizando con comando EXPL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50760">
              <a:lnSpc>
                <a:spcPct val="100000"/>
              </a:lnSpc>
              <a:buClr>
                <a:srgbClr val="9f2936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Mantenimiento de tablas e í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ANALY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REP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Otros aspectos de optimización (permisos, modificadores SQL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523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500040" y="49968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8000"/>
          </a:bodyPr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OPTIMIZACIÓN DEL 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4 Conector recto"/>
          <p:cNvSpPr/>
          <p:nvPr/>
        </p:nvSpPr>
        <p:spPr>
          <a:xfrm>
            <a:off x="2214720" y="1214280"/>
            <a:ext cx="50720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8 CuadroTexto"/>
          <p:cNvSpPr/>
          <p:nvPr/>
        </p:nvSpPr>
        <p:spPr>
          <a:xfrm>
            <a:off x="642960" y="1643040"/>
            <a:ext cx="85010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Optimización de mot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0760">
              <a:lnSpc>
                <a:spcPct val="100000"/>
              </a:lnSpc>
              <a:buClr>
                <a:srgbClr val="9f2936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Aspect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0760">
              <a:lnSpc>
                <a:spcPct val="100000"/>
              </a:lnSpc>
              <a:buClr>
                <a:srgbClr val="9f2936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Memoria según el motor de almac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0760">
              <a:lnSpc>
                <a:spcPct val="100000"/>
              </a:lnSpc>
              <a:buClr>
                <a:srgbClr val="9f2936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Caché de consu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0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Rend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Con programas de “benchmarking” propios de MySQL o de terc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5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7" dur="1" fill="hold"/>
                                  <p:tgtEl>
                                    <p:spTgt spid="52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500040" y="49968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8000"/>
          </a:bodyPr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MONITORIZACIÓN DEL 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0000" indent="-1800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4 Conector recto"/>
          <p:cNvSpPr/>
          <p:nvPr/>
        </p:nvSpPr>
        <p:spPr>
          <a:xfrm>
            <a:off x="2071800" y="128592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8 CuadroTexto"/>
          <p:cNvSpPr/>
          <p:nvPr/>
        </p:nvSpPr>
        <p:spPr>
          <a:xfrm>
            <a:off x="642960" y="1500120"/>
            <a:ext cx="8501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Comandos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Para motores, errores, logs, errores, índices, tablas, procesos, perfiles, estado, variabl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Programa mysqlad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07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Otras herrami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-Comerciales cómo MySQL Enterprise Monitor o libres cómo mysql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-De propósito general cómo cac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-Programadas ad hoc por el administr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5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5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59" dur="1" fill="hold"/>
                                  <p:tgtEl>
                                    <p:spTgt spid="52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60" dur="1" fill="hold"/>
                                  <p:tgtEl>
                                    <p:spTgt spid="52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61" dur="1" fill="hold"/>
                                  <p:tgtEl>
                                    <p:spTgt spid="529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39:15Z</dcterms:created>
  <dc:creator>profesor</dc:creator>
  <dc:description/>
  <dc:language>en-US</dc:language>
  <cp:lastModifiedBy>hueso</cp:lastModifiedBy>
  <dcterms:modified xsi:type="dcterms:W3CDTF">2011-06-16T01:37:57Z</dcterms:modified>
  <cp:revision>121</cp:revision>
  <dc:subject/>
  <dc:title>Diapositiva 1</dc:title>
</cp:coreProperties>
</file>