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163-D7A7-4830-B651-2CC5F7F8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BF1-CC1A-4E88-B764-3F999278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A77EA-47F7-47B3-872B-C05E946A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5E3B0-44E2-4C80-8381-F52D8BE5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D30D9-A762-4E7C-B281-63D4B7D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3F9EF-C76F-4D29-8953-C42A80A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B43FC-3D51-4E0B-B059-EC1F6BF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50118-C991-4975-9421-DD7D21D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18930-E400-44D2-B7C5-7ADE3FDB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29B01-FDD8-4EAB-A852-479529B4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0893D-8507-4DA0-B739-BFF7AE8A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F8C3F-7DC5-4A89-8CCA-A90FF9EA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0B9-3727-4578-A174-D84ABA39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8F209-FB55-4A97-AA97-D5CEF222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F7350-44A3-4434-B564-79DBB358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B1F77-7B94-4685-9B81-E0B7EFB3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FEAED-94FF-4DA1-9E66-568F6DB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C2D4C-54CC-4783-ABF9-0A7E5E5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04225-7008-44D9-A697-F37DD4F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DF649-3B5A-4AA4-A3BC-334F365A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310D0-A8A6-4871-A5F8-29FDEA8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61857-BCE9-4602-BB13-1D450919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14577-E280-4FEF-898A-3B191BDA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4C9-C038-4AC4-A06E-999A0EA0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186F9-33DB-43FF-A365-8D42F32C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0FE17-D8CF-448A-ADD1-7506BB31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14488-08E4-4257-A8CC-0BA49AA2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098ED-3155-4E9B-9F99-122F9AED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CCFAA-1717-4AD2-AD08-CDC816FB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2333-E26E-46E6-AE1E-6074A77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F4377-780D-4168-9C57-0E230D4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89201-0C77-4764-B105-CBF6A2C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99E2-C580-4C0E-8E85-A81B1FF3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55F1-29D0-4255-A4ED-6A4D9A1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E29-2DC2-4B7E-9E17-4A52B13F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F3BCD-C114-4845-9619-E6C599A5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275F7-F765-41CA-85DF-093F016B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723CC-1D00-468C-813E-6131C145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BAE3E-F04C-4A54-AEB8-836F3400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69722-95EC-4DA1-81E4-EA146F64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DD201-139A-414B-B593-4A260571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A8DDF-088F-4A8C-B243-1590C35D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2265E-8DC9-43DF-BECB-A6FFBDCE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599F4-BF43-48FE-A71D-09E3F61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E0A62-45C8-4665-B8A0-5495441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4E6D-E756-4826-9E1D-4DC70CCC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ABDDC-BBCD-44A0-901A-2AD2B964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94068-1E66-480D-A861-59DE567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EDFA0-AC5E-4136-990D-F93E011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3532F-BD4E-4BA1-B5C0-19F2A98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A63CB-1BF1-4014-B728-99894D0D2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3C64-73F6-4866-A444-F3ECD4E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313F-C074-4645-AA36-B7F31268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5673-28F4-48B9-9881-52D5C39A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897D-31BD-49E8-AE04-0E6EB0E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13C8-1E0B-4C27-81CF-EAC5A7F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B0B-701C-4670-95CC-A142B352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BA0-448B-4821-9DEF-96BC1D9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2510-06FA-464A-BBED-7847A2E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7FF8-D33B-4805-9B0A-0ABFDFDA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88D6-8506-4F98-BB9B-7DB221E9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841-4359-4C7F-966C-16722BFE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BE5E-722B-43DF-8D6B-DC25BFEB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209C-23F1-4D89-8372-DA0A591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22D52-4749-410D-AFB2-EB02D87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F2EC-E81F-4F46-B112-E0348AA6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3A1E-6FF3-4ADA-B3D1-969716E0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AC9-B7C1-4BF3-87AC-EEB8940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6190-911E-406A-B35D-DEB00C75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CC4E-ED42-4F0B-BC41-DE26FA7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94BF-22DD-4271-B217-4DB1464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24125-40DB-42C3-A6C6-52DB0CF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4D7A-3EA3-4C2E-8E61-83EE8227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8C55-CAF7-4482-BB2F-96305DF4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0D0A-B7CA-4553-A4EA-7E1E9920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1C66-87F2-4E97-A6FE-3F1CA0C1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0518-4812-4427-9ABC-DC9FCA58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D4930-2292-4CD1-B11D-311B02C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8FC-1596-4D0B-9C62-FDF377F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C564-1065-438F-9819-AE48B32D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5DAA-D2A1-4DF1-8FCE-A686EE56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7DA6-0EA3-4EB0-A2A6-7C847F7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9CBD-9658-4130-B83A-B5597E6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A581-80D7-4DEB-B81D-25354961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8B97-842C-48E1-A7A9-EF57AA8A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26C2-DFC1-48C2-8793-08EBADE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18F0-6A93-4B05-B50E-1646E0D3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4415-529C-487A-9A20-3E7CE3C0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3495-2988-4228-9F3F-D6F4297E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839-F76E-488C-BF99-8F62112C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43E7C-4775-45F1-AC7E-AD5D2DA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39F62-1664-4314-AF7B-8E57452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2C84-4644-46CB-A3DF-3A8BD2E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2760-8BA5-4FFC-B2D1-18C00737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1A691-D359-4E56-8708-CC10D4E9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C8A5-F3F9-45A7-8CBD-BA286592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967F9-199F-4771-856C-D95CCDA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8945-F332-4E1C-B19D-7CF61A1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28BC-582A-4504-BB6A-6E5E1B90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CE46-73B2-463B-BA66-61F5B721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0B3-7E9D-4472-ABB8-75D3090E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4B3B9-8345-40CB-9520-9B4726D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72BC-9F6A-4F5D-AA52-0D089CBF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F08B-F44F-4B26-BCFF-84A9C61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2CA9-95E7-4EB4-B3E1-2D75E7E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C2758-0095-41AA-B393-DB7999F9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01070-B565-4C45-B732-46EB90C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2610-A426-48B5-97EC-50A5315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382DD-AAF3-4025-8242-87C11F2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F33A-75F8-46D4-BBF6-C35241E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9DCA-7B4D-43D9-925D-0A4AE01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5C4-81FC-4A56-9CA4-E4AE45E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E86CB-DA15-4A9F-915F-A60CDDB9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6DF9C-9F2D-4A3D-B656-572B2F6F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FBA2B-5F74-46DE-9A03-4503CF15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FD860-2060-4CC6-B335-36CEB618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A47A-50AD-4B0A-8686-B6EBACC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FA28E-5471-4FD3-8229-9DF95928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D69A-8DC4-40A2-8BFE-40DD1949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5B1E-5F46-4B1A-8E10-F0465DF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EE45B-03E3-4742-9D65-37D45314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76DC2-70C4-46C2-B54A-7C0D01C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7D4-30BD-4C25-8690-50FBBC9E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7923-84A2-4BBF-80FC-DA651E84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BE245-DFD0-4145-B81B-66E721C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1E7CA-8510-4342-9772-2BBF9376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27614-5360-4462-A613-A9672BDD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BFD74-5FBC-4E1E-941B-D7429419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257DB-F279-4A81-8891-211AAD02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EE1C-7239-4DBD-B1BB-4418CCA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D9591-C1A2-4714-B32A-953F367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39AD3-7F87-4213-B6B6-09EF6581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F67A5-C728-4377-A49B-064443B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B42-F608-4A85-837D-A5B8243B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D3E18-85C1-4866-80E6-CB0554FD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988BF-FA96-474F-BCD0-1561F52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D93EB-895D-4663-B5FA-B20C7424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71482-4D7F-4F9F-ABB9-5A1BA8E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F3D41-905D-4B7A-A10B-F367C01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CC78A-8B2A-44A2-8A63-0286CEFE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4C8A4-AFFC-4D94-85F7-3CCD63A8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7625-6C71-4D7B-B4CD-B5438DF3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15E6E-D1C6-4739-AAC2-8BF7A125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539B4-ACA0-4C63-B3CD-ACA8E38B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AD8-FAD4-4274-A2FD-21134B2170A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3A4-4851-42DD-915D-9482ACB4042B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932F-6845-46CE-AE58-3350B68D5297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7C2-0FE4-4E7A-A467-CEE01BD55AB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250-C6BF-40A0-83B0-9BE811D6286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AD0-BC2E-407D-8361-0BFB7BF82E28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9901-35BD-486C-BBA0-088BC6455252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59D7-1457-4437-9685-089EDFCA4616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75FE-39FE-49A0-B9E1-F31A64A02A87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776-F1D5-467A-BFA5-6E5A46FA0F27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241-B31A-4770-9F55-52510EA2E655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0DD-2521-413D-AEEE-829FE3D58880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9f2936"/>
                </a:solidFill>
                <a:latin typeface="Verdana"/>
              </a:rPr>
              <a:t>Capítulo 6</a:t>
            </a:r>
            <a:br>
              <a:rPr sz="4100"/>
            </a:br>
            <a:br>
              <a:rPr sz="4100"/>
            </a:br>
            <a:r>
              <a:rPr b="1" lang="es-ES" sz="4100" spc="-1" strike="noStrike">
                <a:solidFill>
                  <a:srgbClr val="ff8d3e"/>
                </a:solidFill>
                <a:latin typeface="Verdana"/>
              </a:rPr>
              <a:t>Bases de datos distribuidas y alta disponibilidad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7000"/>
          </a:bodyPr>
          <a:p>
            <a:pPr marL="177480" indent="-177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BALANCEO DE CARGA Y ALTA DISPONIBILIDAD EN MYSQ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7480" indent="-177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4 Conector recto"/>
          <p:cNvSpPr/>
          <p:nvPr/>
        </p:nvSpPr>
        <p:spPr>
          <a:xfrm>
            <a:off x="2071800" y="164304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8 CuadroTexto"/>
          <p:cNvSpPr/>
          <p:nvPr/>
        </p:nvSpPr>
        <p:spPr>
          <a:xfrm>
            <a:off x="642960" y="164304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219640" cy="36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5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571680" y="428760"/>
            <a:ext cx="8183520" cy="428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RQUITECTURA MYSQL CLUST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671400" y="1238400"/>
            <a:ext cx="7801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ORGANIZACIÓN DE LOS DATOS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4 Conector recto"/>
          <p:cNvSpPr/>
          <p:nvPr/>
        </p:nvSpPr>
        <p:spPr>
          <a:xfrm>
            <a:off x="207180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5 Rectángulo"/>
          <p:cNvSpPr/>
          <p:nvPr/>
        </p:nvSpPr>
        <p:spPr>
          <a:xfrm>
            <a:off x="214200" y="1143000"/>
            <a:ext cx="89298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Part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Es cada porción de datos en que se dividen los datos del clu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é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Cada réplica es una copia de una partición de datos. Su número es el número de nodos por el número de nodos de grup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Nodo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Almacena réplicas de datos. Hay tantos nodos de datos como particiones aunque pueden albergar réplicas de otras partici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Arial"/>
              </a:rPr>
              <a:t>Grupo de n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79766f"/>
                </a:solidFill>
                <a:latin typeface="Arial"/>
              </a:rPr>
              <a:t>Conjunto de nodos de datos agrupados y que almacena un conjunto de particiones. Hay tantos grupos como número de nodos dividido por el número de réplic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5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54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6" dur="1" fill="hold"/>
                                  <p:tgtEl>
                                    <p:spTgt spid="541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7" dur="1" fill="hold"/>
                                  <p:tgtEl>
                                    <p:spTgt spid="54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ORGANIZACIÓN DE LOS DATOS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4 Conector recto"/>
          <p:cNvSpPr/>
          <p:nvPr/>
        </p:nvSpPr>
        <p:spPr>
          <a:xfrm>
            <a:off x="2071800" y="9288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5 Rectángulo"/>
          <p:cNvSpPr/>
          <p:nvPr/>
        </p:nvSpPr>
        <p:spPr>
          <a:xfrm>
            <a:off x="214200" y="1143000"/>
            <a:ext cx="8929800" cy="916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sumen: los datos se dividen en varias particiones, cada partición se almacena en un nodo. En cada grupo de nodos cada uno almacena una partición y réplicas del resto de particiones en los nodos de su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857680" y="2786040"/>
            <a:ext cx="305748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ALACIÓN Y CONFIGURACIÓN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4 Conector recto"/>
          <p:cNvSpPr/>
          <p:nvPr/>
        </p:nvSpPr>
        <p:spPr>
          <a:xfrm>
            <a:off x="2071800" y="9288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5 Rectángulo"/>
          <p:cNvSpPr/>
          <p:nvPr/>
        </p:nvSpPr>
        <p:spPr>
          <a:xfrm>
            <a:off x="214200" y="1143000"/>
            <a:ext cx="8929800" cy="3682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SQUEMA PREVIO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701856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ALACIÓN Y CONFIGURACIÓN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4 Conector recto"/>
          <p:cNvSpPr/>
          <p:nvPr/>
        </p:nvSpPr>
        <p:spPr>
          <a:xfrm>
            <a:off x="2071800" y="9288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7 CuadroTexto"/>
          <p:cNvSpPr/>
          <p:nvPr/>
        </p:nvSpPr>
        <p:spPr>
          <a:xfrm>
            <a:off x="785880" y="1714680"/>
            <a:ext cx="742932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Descargamos el paquete en cada nodo participante en el clu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Descomprimimos el paquete en el directorio de instalación de cada equipo o nodo particip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Configuramos los tres tipos de no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8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Nodo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8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SQL o nodo de acce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8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Nodo administ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5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5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55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ALACIÓN EJEMPLO: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4 Conector recto"/>
          <p:cNvSpPr/>
          <p:nvPr/>
        </p:nvSpPr>
        <p:spPr>
          <a:xfrm>
            <a:off x="2143080" y="12859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5 Rectángulo"/>
          <p:cNvSpPr/>
          <p:nvPr/>
        </p:nvSpPr>
        <p:spPr>
          <a:xfrm>
            <a:off x="785880" y="1571760"/>
            <a:ext cx="8001000" cy="3682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SQUEMA PREVIO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701856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500040" y="35676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GESTIÓN DEL C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4 Conector recto"/>
          <p:cNvSpPr/>
          <p:nvPr/>
        </p:nvSpPr>
        <p:spPr>
          <a:xfrm>
            <a:off x="207180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CuadroTexto"/>
          <p:cNvSpPr/>
          <p:nvPr/>
        </p:nvSpPr>
        <p:spPr>
          <a:xfrm>
            <a:off x="857160" y="1714680"/>
            <a:ext cx="7155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9766f"/>
                </a:solidFill>
                <a:latin typeface="Verdana"/>
              </a:rPr>
              <a:t>Inicio del cluster y programas bás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9766f"/>
                </a:solidFill>
                <a:latin typeface="Verdana"/>
              </a:rPr>
              <a:t>Copia de segur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9766f"/>
                </a:solidFill>
                <a:latin typeface="Verdana"/>
              </a:rPr>
              <a:t>Registro de eventos </a:t>
            </a:r>
            <a:r>
              <a:rPr b="0" lang="es-ES" sz="30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79766f"/>
                </a:solidFill>
                <a:latin typeface="Verdana"/>
              </a:rPr>
              <a:t>Programas del clu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5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ITULO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9766f"/>
                </a:solidFill>
                <a:latin typeface="Verdana"/>
              </a:rPr>
              <a:t>Conceptos de bases de datos distribuid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9766f"/>
                </a:solidFill>
                <a:latin typeface="Verdana"/>
              </a:rPr>
              <a:t>Replicación en MySQ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Introducción y concept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Arquitectur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Implement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Administr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9766f"/>
                </a:solidFill>
                <a:latin typeface="Verdana"/>
              </a:rPr>
              <a:t>Balanceo de carga y alta disponibilidad en MySQ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Fundament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Cluster de MySQ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Arquitectura y organiz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Gestión del clus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Programas complementari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50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3" dur="1" fill="hold"/>
                                  <p:tgtEl>
                                    <p:spTgt spid="50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4" dur="1" fill="hold"/>
                                  <p:tgtEl>
                                    <p:spTgt spid="50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5" dur="1" fill="hold"/>
                                  <p:tgtEl>
                                    <p:spTgt spid="508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6" dur="1" fill="hold"/>
                                  <p:tgtEl>
                                    <p:spTgt spid="508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57" dur="1" fill="hold"/>
                                  <p:tgtEl>
                                    <p:spTgt spid="508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3 Rectángulo"/>
          <p:cNvSpPr/>
          <p:nvPr/>
        </p:nvSpPr>
        <p:spPr>
          <a:xfrm>
            <a:off x="642960" y="1000080"/>
            <a:ext cx="7929720" cy="10000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00040" y="35676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8d3e"/>
                </a:solidFill>
                <a:latin typeface="Verdana"/>
              </a:rPr>
              <a:t>CONCEPTOS BASES DISTRIBUID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Las bases de datos distribuidas se basan en la distribución de los datos en mútiples equipos según cierta organización reflejada en el catálogo o diccion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79766f"/>
                </a:solidFill>
                <a:latin typeface="Verdana"/>
              </a:rPr>
              <a:t>¿Porque surgen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Mejorar rendimien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Fiabilidad de da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Disponibilida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Arquitectura de las aplica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79766f"/>
                </a:solidFill>
                <a:latin typeface="Verdana"/>
              </a:rPr>
              <a:t>Requisitos de un SGBD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Capacidad de acceso remo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Diccionario o información de cómo se distribuyen los da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Gran capacidad de optimización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Integridad sobre datos replica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Recuperación y failo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4 Conector recto"/>
          <p:cNvSpPr/>
          <p:nvPr/>
        </p:nvSpPr>
        <p:spPr>
          <a:xfrm>
            <a:off x="2143080" y="78588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1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511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511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511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511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511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15" dur="1" fill="hold"/>
                                  <p:tgtEl>
                                    <p:spTgt spid="511">
                                      <p:txEl>
                                        <p:pRg st="19" end="1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500040" y="35676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RQUITECTURA DE UN SGBDD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La organización de sistemas distribuidos depende de tres aspecto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Autonomía de los equipos participant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Distribución de los datos en el conjunto de equip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Heterogeneidad de los componentes hardware/comunicaciones/sistema operativ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4 Conector recto"/>
          <p:cNvSpPr/>
          <p:nvPr/>
        </p:nvSpPr>
        <p:spPr>
          <a:xfrm>
            <a:off x="214308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51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500040" y="35676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RQUITECTURA DE UN SGBDD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4 Conector recto"/>
          <p:cNvSpPr/>
          <p:nvPr/>
        </p:nvSpPr>
        <p:spPr>
          <a:xfrm>
            <a:off x="221472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286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8d3e"/>
                </a:solidFill>
                <a:latin typeface="Verdana"/>
              </a:rPr>
              <a:t>TECNICAS DISTRIBUCIÓN DE LOS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Fragm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Tipos de fragment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Ventaj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Complejidad en la integrida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Reducción de carga en transaccion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Gran eficienci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Balanceo de carga en accesos de lectura/escritur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Repl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318960">
              <a:lnSpc>
                <a:spcPct val="8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Ventaj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Alta disponibilidad de da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Bueno para el failov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Problemas de integrida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-Balanceo de carga de consult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4 Conector recto"/>
          <p:cNvSpPr/>
          <p:nvPr/>
        </p:nvSpPr>
        <p:spPr>
          <a:xfrm>
            <a:off x="214308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5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51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1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1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1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1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1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571680" y="214200"/>
            <a:ext cx="8183520" cy="928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REPLICACIÓN EN MYSQL: 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4 Conector recto"/>
          <p:cNvSpPr/>
          <p:nvPr/>
        </p:nvSpPr>
        <p:spPr>
          <a:xfrm>
            <a:off x="2214720" y="135720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1"/>
          <a:stretch/>
        </p:blipFill>
        <p:spPr>
          <a:xfrm>
            <a:off x="4071960" y="2357280"/>
            <a:ext cx="3867120" cy="1990800"/>
          </a:xfrm>
          <a:prstGeom prst="rect">
            <a:avLst/>
          </a:prstGeom>
          <a:ln w="0">
            <a:noFill/>
          </a:ln>
        </p:spPr>
      </p:pic>
      <p:sp>
        <p:nvSpPr>
          <p:cNvPr id="523" name="9 CuadroTexto"/>
          <p:cNvSpPr/>
          <p:nvPr/>
        </p:nvSpPr>
        <p:spPr>
          <a:xfrm>
            <a:off x="785880" y="1928880"/>
            <a:ext cx="2428920" cy="916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ESTR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 Equipo que contiene los datos orig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10 CuadroTexto"/>
          <p:cNvSpPr/>
          <p:nvPr/>
        </p:nvSpPr>
        <p:spPr>
          <a:xfrm>
            <a:off x="785880" y="3143160"/>
            <a:ext cx="2428920" cy="916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CLAV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 Equipos que replican los datos del mae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11 CuadroTexto"/>
          <p:cNvSpPr/>
          <p:nvPr/>
        </p:nvSpPr>
        <p:spPr>
          <a:xfrm>
            <a:off x="785880" y="4357800"/>
            <a:ext cx="4286160" cy="17398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FIGU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Un maestro un escl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Maestro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Anillo de re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Piram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MPLEMENTACIÓN REPLICACIÓN EN MYSQ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4 Conector recto"/>
          <p:cNvSpPr/>
          <p:nvPr/>
        </p:nvSpPr>
        <p:spPr>
          <a:xfrm>
            <a:off x="2071800" y="150012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8 CuadroTexto"/>
          <p:cNvSpPr/>
          <p:nvPr/>
        </p:nvSpPr>
        <p:spPr>
          <a:xfrm>
            <a:off x="642960" y="164304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reación de usuarios esclavos en el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 estado del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odificación configuración master y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rga de datos en los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Sincronización con el mae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Inicio de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52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DMINISTRACIÓN Y MANTENIMIEN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4 Conector recto"/>
          <p:cNvSpPr/>
          <p:nvPr/>
        </p:nvSpPr>
        <p:spPr>
          <a:xfrm>
            <a:off x="2143080" y="12859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8 CuadroTexto"/>
          <p:cNvSpPr/>
          <p:nvPr/>
        </p:nvSpPr>
        <p:spPr>
          <a:xfrm>
            <a:off x="642960" y="1643040"/>
            <a:ext cx="7858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ONIT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MBIO DE MAE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PROGRAMA mysqlbin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5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1:58:48Z</dcterms:modified>
  <cp:revision>142</cp:revision>
  <dc:subject/>
  <dc:title>Diapositiva 1</dc:title>
</cp:coreProperties>
</file>