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02F-3D6F-4D27-B926-5F3FA9A9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C0F-8163-4951-B0BA-311900F7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3A41B-04F2-484B-8929-65BFC539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420F9-2A0A-4A6B-A208-4876F057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9E81C-69F4-4B07-8A68-CE5C29AA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184DB-4029-408D-9549-7F90A5BB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7E815-F8D8-4CA0-9074-3BAC4EA7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220D0-DA50-427B-B6FB-2E515CBB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8446B-6E8A-4865-A14C-0B171CF9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96E7E-3984-46AC-A116-1953F177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7B98B-B6AE-451B-8E07-0245A367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8AA2B-2EC4-47E2-97C9-639F7C44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BD23-C59E-472E-9CB2-C7B8C657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59CBF-E418-4486-AE22-D2BC0D5B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F765E-E81F-49B2-A9B3-85D4E8A6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C9CFD-BBF4-4791-9B8D-958553F0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0C011-A945-4550-95D5-BFD28C9E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5F55F-AF29-4744-A61E-DE9BD181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164C2-F2E6-49F5-88D5-5CD370BC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F62CA-B90D-40CB-B8A8-7085100D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A8C52-E6C9-4C24-96EE-98CE20AE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8A32E-6146-4DCC-A96B-431C6B0E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F70DC-6186-4256-9993-57262638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47D-FAF3-4E15-BFDD-06E88C35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BE563-5D7F-49D7-B49D-C291D100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63B14-3594-4072-A89C-A38DCC05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84D1A-0A8A-4AE6-A191-B1AD3E28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97DD5-335D-43DC-87C1-256DF503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D7B8F-A195-4DF6-BCBB-A9BEFF96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81798-5498-48C0-A404-12B72492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B51E1-6721-46D2-9B45-EB8B577B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9A06E-27C6-4236-B8AB-D878157D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471E4-C4A1-4273-8E4B-382657CF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D6601-2A0A-42BA-B6D9-B72EB6C7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0F42-E270-4587-809A-A9EE3DE7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9B7DB-8CEF-468F-9126-C464F9C4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26A26-F2C0-4F45-BD0E-87DC6A83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93AFB-AFC0-4BC0-BBF4-FDA712B6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778AB-F438-480A-871A-B6A755FE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5C381-786D-471E-8BF9-E66BF570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3AA69-30F1-4ED5-AE81-71CA8950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53AE5-AFC3-457A-9CED-80714E6F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4413D-FB50-42FA-9E3A-4A881B3B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7BD1E-D8AE-4C04-A1CE-7E3C3904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256D1-C8CF-4EE4-9000-1D80284C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678F-DC44-4B00-95CF-59378F15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A7ACC-2242-4477-97D5-A8330A5F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8C9C3-719A-4F9B-9CC8-CF434D80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2F90E-0847-445B-A2AA-910C62EC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3E40D-6633-4002-84E5-FFD09845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868C3-FE21-4057-9EDA-B2132095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47DC-4F72-4096-BBEC-7762A305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CE1C-3680-4507-BD5B-4F48F607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0069-CDA2-4071-979F-AAA60B44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C1EB-03EC-470C-8A92-5F0D479E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D167-8285-4BF4-A208-577EF75A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DCE5-49D1-4D52-90E3-CBCB4E83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8F49-AF7F-484F-A35F-7427DE5F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08F6-CA17-4A15-98C4-79EFD8CA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C6FF-F89A-442D-AABD-D78225D6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4233-34B4-421B-84FB-9958305A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AE08-435A-4C42-9875-03D33650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DED07-51ED-42E8-A2A4-AEF9528B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54AB8-0DFF-47B0-AAEF-7502CA07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8FE86-E21C-4FB8-87A8-C6F6E7F4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06279-DD69-4E46-9FFA-F5EB47BD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D6A98-AFAE-4753-8891-D4DB91D4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8E3-EDB9-4685-B66D-2A2C3940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A0226-A22B-49DC-89C5-648118EF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68AC9-549B-45BC-A1B7-4AB951DC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25D76-F63A-41C2-8E54-2D147C55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7D272-1481-4D88-9FD0-AFDC3C2F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2997F-DE0D-4325-91D5-0170E267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9591C-92B7-4037-BAF0-4FA8801A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65DA5-80A4-4316-859C-635B327D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6F01A-70F3-4652-8122-066871B2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54483-B194-4ACB-860F-D6064C34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8F794-0332-4EE9-B8AB-F3B700E5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5E4-8FEB-4F9F-8EE4-513D4732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1742D-0EC9-4E64-A462-B0C6030E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86FF4-B4F2-405E-9347-43D1BB92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D828E-7911-495C-A3F1-D93585D8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383BC-25BD-4521-8256-DAF4B70A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C9AEB-5888-4845-BAC4-A87EB833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FE026-4106-42A1-9E65-80D94A59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C063A-F277-47CD-AE14-85841867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AB1AD-9999-40C5-BA4D-C4959B64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8E356-B105-403C-AAF1-075444B7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E04E8-0FE1-49EA-828D-75ABE54E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269-103F-4BD2-8F16-634BEB30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7AB20-81A9-4EEF-B1FF-7E64E9CF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2B082-EFA6-4335-B8C6-99CEF532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3DFC0-453B-4173-978D-2F8EBF52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C1584-980A-4EF5-A8FE-275FAD9D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2CCB0-D9B5-4E12-9748-AF784B02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C1710-524B-484E-BDA2-BA610F46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A518F-D514-4884-B71D-C8CF9A06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6177B-B595-418D-B3FD-15C5DF91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6C950-61F0-401A-9B96-A8B9C1DE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12025-E298-43C2-B260-1DFF2007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C14-BBD2-4559-A41F-6DFA486A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DDF2F-22AD-40D2-A340-90834E48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DE3BA-802F-41E1-8706-DF4E4C6F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D0D4E-2A3F-4355-AB0F-2C17CEC2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A976B-3A90-4B18-8B8D-F6E54572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2D068-CC63-4E4A-841F-5E876999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F9E5A-3E1B-40C5-BC53-1F4C0F06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069BA-1B23-420E-8BCC-4386D03D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0446C-B637-4C73-8A18-C21B325B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D8F03-FFF5-48E8-87F9-780B091F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1ADA0-8ED1-4EFA-8692-2F094768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7DF3-4113-4EAA-AD15-125EF8B4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EC7FD-01DE-40FB-85B2-E05ED2B3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EC1FB-4B3C-40AB-9F4D-91BF010A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43DC8-AFFD-485E-9A16-858F73AC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CD455-4D38-470A-82CD-9C63A50F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8F44C-B742-479C-9F27-5D709AB2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68867-C5FC-4F91-A2B7-3FF09AEC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93823-F749-4407-B63E-99848CCD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1E978-FD5A-43C9-BE13-C1F13682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1542B-8D8D-439B-A862-0CA9707F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33494-5095-48F6-BC16-D6146F4A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5A6-2689-42B7-A449-73C172D4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1C588-336C-40A8-A7D8-ADDFFCD1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50548-42D9-47E1-9BFD-2C9BB2E7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ADD2D-2796-4366-9A95-6D06F3E8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9D173-AD51-4644-8D28-E5BBA686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690B9-362D-40FA-A190-7C43B9F5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45532-F3C9-4618-B6D8-83F6EB41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AB943-694C-45E1-B3D2-F09CB037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DA06F-FE6E-49C2-BF99-78DB35D4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A1C65-D3C7-4F59-B1B6-19208E9A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07FB5-08A5-41DA-AE59-AA5829AE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E8B-EFCC-4252-A0B1-2989E9A1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811A1-837E-4E7C-850B-3E92FBCD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5E08D-D1A0-4D06-ACCD-3113F0FC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C4BB2-1F89-4632-9514-DD4CBD92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58578-13E4-4CB9-AD89-C281EB93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77C21-4F3B-488F-882D-66777813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45039-4155-4640-AFBE-67E867CB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8424B-2768-424F-966F-E1C89CEF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909A2-0EC6-47A4-BE30-6DF1511A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B0DE2-9FCE-45A7-92CA-8080DE54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6992E-8213-43BB-896E-02F78655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AEBF-7585-454A-8B17-39CF9864F591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981D-AD26-453E-86B6-973A4BAE44EF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3514-FB6F-4B5A-A79A-6A25E54AB239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1665-483D-41D2-922F-AEB244064EFA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43D0-F7FE-42E6-86B0-AA3B3B50B65C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2770-EA45-4335-B1D8-C6E8B57A27C2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33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6B80-2C09-4E3B-89B7-2EAA65431C26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8027-5597-44C1-8A28-7A29CABDCDA8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401A-0797-4953-AC0D-3F2DE9AE6A3C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D894-E3CD-42D3-A09C-45E11A9263F3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13F2-C9E6-4DF8-B63E-5F70D9519251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F454-017E-44FB-9F6F-0D0F80063BDA}" type="slidenum">
              <a:rPr b="0" lang="es-E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9f2936"/>
                </a:solidFill>
                <a:latin typeface="Verdana"/>
              </a:rPr>
              <a:t>Capítulo 1</a:t>
            </a:r>
            <a:br>
              <a:rPr sz="4500"/>
            </a:br>
            <a:br>
              <a:rPr sz="4500"/>
            </a:br>
            <a:r>
              <a:rPr b="1" lang="es-ES" sz="4500" spc="-1" strike="noStrike">
                <a:solidFill>
                  <a:srgbClr val="ff8d3e"/>
                </a:solidFill>
                <a:latin typeface="Verdana"/>
              </a:rPr>
              <a:t>Conceptos de bases de dato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ÍNDICE CAPÍTULO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f7f7f"/>
                </a:solidFill>
                <a:latin typeface="Verdana"/>
              </a:rPr>
              <a:t>Base de da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Verdana"/>
              </a:rPr>
              <a:t>“</a:t>
            </a:r>
            <a:r>
              <a:rPr b="0" lang="es-ES" sz="2400" spc="-1" strike="noStrike">
                <a:solidFill>
                  <a:srgbClr val="7f7f7f"/>
                </a:solidFill>
                <a:latin typeface="Verdana"/>
              </a:rPr>
              <a:t>Conjunto de datos organizados según cierta estructura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f7f7f"/>
                </a:solidFill>
                <a:latin typeface="Verdana"/>
              </a:rPr>
              <a:t>Sistema Gestor de Bases de Da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Verdana"/>
              </a:rPr>
              <a:t>“</a:t>
            </a:r>
            <a:r>
              <a:rPr b="0" lang="es-ES" sz="2400" spc="-1" strike="noStrike">
                <a:solidFill>
                  <a:srgbClr val="7f7f7f"/>
                </a:solidFill>
                <a:latin typeface="Verdana"/>
              </a:rPr>
              <a:t>Software para la gestión y control de acceso a los datos de las bases de dato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" dur="1" fill="hold"/>
                                  <p:tgtEl>
                                    <p:spTgt spid="50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  <p:animClr clrSpc="rgb">
                                <p:cBhvr>
                                  <p:cTn id="24" dur="1" fill="hold"/>
                                  <p:tgtEl>
                                    <p:spTgt spid="508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ARQUITECTURA SGB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Vistas de Usu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Organización lóg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766f"/>
                </a:solidFill>
                <a:latin typeface="Verdana"/>
              </a:rPr>
              <a:t>Organización fís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3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5 Rectángulo redondeado"/>
          <p:cNvSpPr/>
          <p:nvPr/>
        </p:nvSpPr>
        <p:spPr>
          <a:xfrm>
            <a:off x="4357800" y="1785960"/>
            <a:ext cx="3286080" cy="8571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NIVEL EX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6 Rectángulo redondeado"/>
          <p:cNvSpPr/>
          <p:nvPr/>
        </p:nvSpPr>
        <p:spPr>
          <a:xfrm>
            <a:off x="4357800" y="3071880"/>
            <a:ext cx="3286080" cy="8571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NIVEL 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7 Rectángulo redondeado"/>
          <p:cNvSpPr/>
          <p:nvPr/>
        </p:nvSpPr>
        <p:spPr>
          <a:xfrm>
            <a:off x="4429080" y="4572000"/>
            <a:ext cx="3286080" cy="8571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NIVEL FÍ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FUNCIONES SGB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Catálog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Integridad en transa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Actualizaciones concurren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Recuperación de da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Integración de comunicación en 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Restricciones sobre los da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Utilidades administ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515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503280" y="529920"/>
            <a:ext cx="8183520" cy="597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8d3e"/>
                </a:solidFill>
                <a:latin typeface="Verdana"/>
              </a:rPr>
              <a:t>COMPONENTES SGB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Lenguajes de d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795240">
              <a:lnSpc>
                <a:spcPct val="80000"/>
              </a:lnSpc>
              <a:buClr>
                <a:srgbClr val="ed3742"/>
              </a:buClr>
              <a:buSzPct val="112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9766f"/>
                </a:solidFill>
                <a:latin typeface="Verdana"/>
              </a:rPr>
              <a:t>DDL -&gt; Definición de dato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795240">
              <a:lnSpc>
                <a:spcPct val="80000"/>
              </a:lnSpc>
              <a:buClr>
                <a:srgbClr val="ed3742"/>
              </a:buClr>
              <a:buSzPct val="112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9766f"/>
                </a:solidFill>
                <a:latin typeface="Verdana"/>
              </a:rPr>
              <a:t>DCL -&gt; Control de dato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795240">
              <a:lnSpc>
                <a:spcPct val="80000"/>
              </a:lnSpc>
              <a:buClr>
                <a:srgbClr val="ed3742"/>
              </a:buClr>
              <a:buSzPct val="112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9766f"/>
                </a:solidFill>
                <a:latin typeface="Verdana"/>
              </a:rPr>
              <a:t>MDL -&gt; Manipulación de dato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795240">
              <a:lnSpc>
                <a:spcPct val="80000"/>
              </a:lnSpc>
              <a:buClr>
                <a:srgbClr val="ed3742"/>
              </a:buClr>
              <a:buSzPct val="112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Diccionario de d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Objeto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79766f"/>
                </a:solidFill>
                <a:latin typeface="Verdana"/>
              </a:rPr>
              <a:t>Consultas, vistas, tablas, disparadores, rutina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Herramie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200" spc="-1" strike="noStrike">
                <a:solidFill>
                  <a:srgbClr val="79766f"/>
                </a:solidFill>
                <a:latin typeface="Verdana"/>
              </a:rPr>
              <a:t>Programas diversos para garantizar la seguridad, integridad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Optimizador consul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Gestor de transac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Planific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Copias de seguridad y recuperació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5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51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51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>
                                      <p:txEl>
                                        <p:pRg st="17" end="1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1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>
                                      <p:txEl>
                                        <p:pRg st="19" end="1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517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>
                                      <p:txEl>
                                        <p:pRg st="21" end="2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17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>
                                      <p:txEl>
                                        <p:pRg st="23" end="2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517">
                                      <p:txEl>
                                        <p:pRg st="25" end="2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USUARIOS SGB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9766f"/>
                </a:solidFill>
                <a:latin typeface="Verdana"/>
              </a:rPr>
              <a:t>Administrado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9766f"/>
                </a:solidFill>
                <a:latin typeface="Verdana"/>
              </a:rPr>
              <a:t>Diseñado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9766f"/>
                </a:solidFill>
                <a:latin typeface="Verdana"/>
              </a:rPr>
              <a:t>Programado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9766f"/>
                </a:solidFill>
                <a:latin typeface="Verdana"/>
              </a:rPr>
              <a:t>Usuarios fi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51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TIPOS SGB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Según mode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Jerárquic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R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Relaciona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79766f"/>
                </a:solidFill>
                <a:latin typeface="Verdana"/>
              </a:rPr>
              <a:t>Orientado a Objet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Diseñador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Programador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79766f"/>
                </a:solidFill>
                <a:latin typeface="Verdana"/>
              </a:rPr>
              <a:t>Usuarios fina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5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5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521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6 Rectángulo"/>
          <p:cNvSpPr/>
          <p:nvPr/>
        </p:nvSpPr>
        <p:spPr>
          <a:xfrm>
            <a:off x="642960" y="3786120"/>
            <a:ext cx="6500880" cy="4287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5 Rectángulo"/>
          <p:cNvSpPr/>
          <p:nvPr/>
        </p:nvSpPr>
        <p:spPr>
          <a:xfrm>
            <a:off x="642960" y="1428840"/>
            <a:ext cx="6500880" cy="4284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503280" y="529920"/>
            <a:ext cx="8183520" cy="561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8d3e"/>
                </a:solidFill>
                <a:latin typeface="Verdana"/>
              </a:rPr>
              <a:t>SISTEMAS LIBRES y COMERCI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ib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Disponibles de forma abierta en la 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MySQ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PostgreSQ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LibreOffice B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merci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Requieren pago de licencias aunque disponen de versiones gratuitas limitad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SQL ser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Microsoft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4 Conector recto"/>
          <p:cNvSpPr/>
          <p:nvPr/>
        </p:nvSpPr>
        <p:spPr>
          <a:xfrm>
            <a:off x="2071800" y="1143000"/>
            <a:ext cx="5072040" cy="144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5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5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52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52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52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>
                                      <p:txEl>
                                        <p:pRg st="17" end="1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8" dur="1" fill="hold"/>
                                  <p:tgtEl>
                                    <p:spTgt spid="525">
                                      <p:txEl>
                                        <p:pRg st="18" end="1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5d1c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4:39:15Z</dcterms:created>
  <dc:creator>profesor</dc:creator>
  <dc:description/>
  <dc:language>en-US</dc:language>
  <cp:lastModifiedBy>hueso</cp:lastModifiedBy>
  <dcterms:modified xsi:type="dcterms:W3CDTF">2011-06-16T00:22:24Z</dcterms:modified>
  <cp:revision>30</cp:revision>
  <dc:subject/>
  <dc:title>Diapositiva 1</dc:title>
</cp:coreProperties>
</file>