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EFEA-2E7A-4054-A0A5-B9241710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4FAC-4AD7-4E03-AE43-04B18779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A7107-A943-4934-A9A6-B3525ED2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E88BE-60E1-4166-A9C7-2DC9685F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F6BFE-BABD-44CB-8338-23F9EE3C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5CC43-E54E-46EC-8B07-E82C3BC9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B1CA9-71EC-4328-8747-1D152BD2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3B298-313E-41B6-8F04-CC508F9D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1B4B7-D190-4F91-AA44-1F1F5569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692FF-DC8D-455C-83AB-9E98A615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7DA2B-5B73-4905-8726-F3192088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7C197-3186-47F5-8B84-FCA49EA4E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05C6-2A74-4168-8C03-06C961E23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98C7F-FC7D-4609-9D8D-D0A0DAFD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0EF508-05E3-4209-B4B8-92F8E932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B0FD4C-AA8E-4590-A403-CFC70DC3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B9E84-0266-47C1-8018-CA154359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E9D29-F08F-422D-AACC-F14CE8AA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062F1-8DE7-4F04-9118-E741121E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D89469-F8F9-4135-A4BC-F2A0E59D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36A50-ABBE-4DF4-B770-1DCB1768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DED24-0CB6-47E4-A24C-5369826F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D4309-77E4-461C-A094-C983C088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69CF-03FD-43AB-9F62-184E8163F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BD6CB6-A195-448B-BF88-F163C9E2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CD737-5D7E-470E-846B-7BEB2A16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05DD3-B52F-4F18-BE31-7505AD8F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2284A-6170-495E-A34E-A7C821BF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86E6D-3834-4331-B59C-8BC5705B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5A8BF-0138-430A-BA25-CA2DA08D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E5EB3-7DF7-4CFA-8CE2-259BFE98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36C34-B58E-42D4-A477-357296CE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321B9-D7D0-482B-9E04-D507743A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00E0D-BBF5-45F8-A7FD-45266C92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6E23-1C4F-45FE-86A3-25A1BC87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68630-714F-4F36-8CD4-7A74FC12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887A5-2420-49E8-95AE-A56B72E4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D8C6C-5621-41B4-B9A6-CBA31238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F264E-EC7B-4558-B61D-F0C8D4141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37327-60F6-4C8A-BE97-8D28EF9F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E1DF5C-4D8E-456F-B3C5-FB14907F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1CEB18-83D2-49F6-B57E-A0D00A3B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6617C-3077-4F5F-AB2B-4154FBC9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61A59-3103-4A6D-B308-923BED48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F7D0C-0D8F-4C4B-AC01-80D768FF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29E6-F413-44B6-AC8A-08B7D30D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BE7EA7-A4F2-497C-8735-017899C7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A2CEF4-3F6C-4FB5-9BB4-D2528EA1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A1C48B-D9FC-41A9-8412-CC8161ED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D57D9-AE64-4346-8D32-4A17697A2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19A9F5-6799-426F-B213-F093E8F5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D620-A066-4BA2-BA31-B0714FDE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C86E-05CB-4220-B5A9-F8486231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EABC-89B4-4AC9-BEB4-B755723C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DE52-6D00-4E3B-916A-DBC1F3B2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8DBD-A520-4589-96FA-1A607437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329F-3C38-487F-BA02-D22382BD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665A-3DEB-4F00-AE87-E3690625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6AF0-DB57-4CB6-AECB-5D64FEC1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BD3F-9A1E-4C5E-AE0E-7C5464BE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396D-00BE-421C-B813-5EB314460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DA77-04CA-4806-A941-9ED98F74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653CF-CF4D-4F59-9641-0400FFC7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A40EC-A4DB-4048-B796-887625A6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123AB-1B34-40DF-B227-9C0EB8F3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A8081-3763-483C-A919-600384F8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5433D-E334-420F-B9C2-668D84E1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1C73-EA9B-4802-B2F3-57F80920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BD2CF-E9ED-44F9-B17E-CAE1FDBB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67164-F737-428C-8D5F-7A6DB61B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8F5E2-A299-46C0-ADDC-E97810CB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C86FC-9737-4868-8A0B-04A25B98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11F63-79D8-4474-9D29-96B89793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4F1EE-4BD5-4952-A5E8-C5B2F7151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39F9A-8108-4ABD-A52C-281879F9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E1B17-5FEC-4CA4-86D1-6F353A46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55F7F-BB4E-481E-8ABA-9EB0752F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B3AC8-630D-4313-A5D6-2914CBC3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7610-D5E5-4395-BE04-3949C0B5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C5CFF-E779-486C-8B8A-55354609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F0AD4-DF1A-45FE-836E-6BD3AFD4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BF228-5CED-4E0E-B8D8-E6C9B4E0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D63B1-B833-407E-8980-466A9185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FD023-0698-41A0-940A-48294893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926AA-2B94-4089-A7BB-481EE6B5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3A90A-C228-4A4B-9506-26BAFAD9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06AB9-ACBA-46BA-97A7-71355FA1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1B56A-ED4D-4AE4-94DF-8787B98A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570F9-9A7D-460D-BF6C-AA15ACA0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4407-F07A-4065-81E5-F4CF536C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F114C-5775-4927-B3E2-25D1FE84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A470D-CF72-42C8-9E1F-C7AC7283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D4CBB-9C94-4DEA-B142-E9F28C6D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F3917-5115-4F20-A6F8-7B2D560D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534A5-9F44-445E-9DFD-19A69EEB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F7640-1868-4256-9B0C-7435120E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40B2A-3E42-4201-8A37-D5C519E3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D6FF8-08EF-47EE-BEE3-D8409ED7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8A3C8-C9FF-450A-A497-678E031F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2DB27-1305-448F-BB1A-EA844A5E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D75B-A657-46DA-8C37-A67E7113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5E8F3-D2F7-421E-802F-BEE47F957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9156D-9230-4C44-8604-44995F48C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92581-4AAE-4400-9B6C-AB7AAACE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29FEE-63B5-4CBD-97D3-C8525ECC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D84BA-2552-4752-8F75-8079DFF5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E1C6B-0353-416F-9489-44355180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8C9E4-24DA-4655-A25E-CE2EBB59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12779-995F-4CF7-88FB-79A09FF6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56D16-094C-4E17-9BAF-F8357C20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AEF0F-ADD9-4ED9-B1A7-B76F1E4F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9B78-028C-47AF-8241-CD133F16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988A4-E8A5-46D7-83E2-1F0A5CE4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28C67-B412-465D-B2F9-28BF5568C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C933E-3DF5-4746-AA10-5A9E6BDF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0F714-7447-4513-A5C9-0B584C92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DEE15-0924-43C1-B061-BD989580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69632-37AD-4CE1-A913-5BC0D8DB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F3F97-94C0-4225-9A2B-52CBB808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C8C9D-E0E9-407D-80B5-07AA9A93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7904A-ED20-40CF-B977-080AC8E0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42B67-201A-4EBF-994A-4D200DC1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3AA8-1F85-437B-947C-C9D222D6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29A0D-2D6D-4328-A292-26EC024E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BF8B7-45A4-4CFA-8D75-5FBA4338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32917-3D78-4D41-A387-6C40EEEB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6EA4B-4AF3-45C1-9563-2634BE0A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0A69C-34E8-44C2-BE60-7FE06CD2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22418-132C-4848-B4D7-D0F2C78B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95700-8172-417B-9FBF-213EB555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D6481-A766-4801-87EE-3D0E7F93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C4745-F5FD-4EAF-AC89-1FA23E1A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1E750-1BA6-4D3E-9380-C6B9964C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0AAC-14A0-457F-804E-58B4CCBE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5E47E-F66B-45CA-8973-42C078FC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DCC62-40E1-426B-AE6E-A50D240C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7CAB1-CCDA-47B1-A35C-2C552E81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32974-54E8-424B-8961-05571B44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4B542-4DAC-4AD4-B337-734CEB9C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846FF-0D46-458E-9D35-D199D0155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6EC06-A3EB-4C77-BBDD-27933DA79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59305-6334-440D-B10A-05382B94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9D10C-8516-4CBB-94BF-B87276EB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DB820-8FC6-4579-9483-71E07515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8 Rectángulo redondeado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8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BF36-D001-4A75-B73F-D399209701B2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10 Redondear rectángulo de esquina sencilla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9C5C-5B04-4EB6-A595-69189ABA7714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25A4-7F98-401F-91DC-753B9DFC8915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F944-B50D-44F7-89A8-C8FDD010A4E0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6405-8F2B-442F-9161-F6642FFE2889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4C43-8F1D-45F9-A6EE-C5A2432324ED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10 Rectángulo redondeado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3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1A65-DE3F-4CAD-BF74-9D40F246EAA9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C8B2-3FC7-4CAE-BAAD-CDDBDA92E7BE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1D5B-A6AC-4549-9134-8628C17E3F80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B3F6-CF24-4D83-A475-F65D104EC28E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8316-0B32-42D4-B111-2FA6199AF81B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FB2A-3AE9-4446-8D0E-834FBEEC337E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14240" y="114300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9f2936"/>
                </a:solidFill>
                <a:latin typeface="Verdana"/>
              </a:rPr>
              <a:t>Capítulo 3</a:t>
            </a:r>
            <a:br>
              <a:rPr sz="4500"/>
            </a:br>
            <a:br>
              <a:rPr sz="4500"/>
            </a:br>
            <a:r>
              <a:rPr b="1" lang="es-ES" sz="4500" spc="-1" strike="noStrike">
                <a:solidFill>
                  <a:srgbClr val="ff8d3e"/>
                </a:solidFill>
                <a:latin typeface="Verdana"/>
              </a:rPr>
              <a:t>Gestión de usuarios y permisos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503280" y="529920"/>
            <a:ext cx="8183520" cy="5613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ÍNDICE CAPITULO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79766f"/>
                </a:solidFill>
                <a:latin typeface="Verdana"/>
              </a:rPr>
              <a:t>Sistema de permiso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79766f"/>
                </a:solidFill>
                <a:latin typeface="Verdana"/>
              </a:rPr>
              <a:t>Gestión de recurso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79766f"/>
                </a:solidFill>
                <a:latin typeface="Verdana"/>
              </a:rPr>
              <a:t>Conexiones segura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4 Conector recto"/>
          <p:cNvSpPr/>
          <p:nvPr/>
        </p:nvSpPr>
        <p:spPr>
          <a:xfrm>
            <a:off x="2071800" y="114300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50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503280" y="529920"/>
            <a:ext cx="8183520" cy="5613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SISTEMA DE PERMI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79766f"/>
                </a:solidFill>
                <a:latin typeface="Verdana"/>
              </a:rPr>
              <a:t>Tablas de permiso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79766f"/>
                </a:solidFill>
                <a:latin typeface="Verdana"/>
              </a:rPr>
              <a:t>Guardan información de los permisos sobre los objetos del SGB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79766f"/>
                </a:solidFill>
                <a:latin typeface="Verdana"/>
              </a:rPr>
              <a:t>Privilegios en MySQ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79766f"/>
                </a:solidFill>
                <a:latin typeface="Verdana"/>
              </a:rPr>
              <a:t>Permisos posibles sobre los distintos objeto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79766f"/>
                </a:solidFill>
                <a:latin typeface="Verdana"/>
              </a:rPr>
              <a:t>Control de acceso detallad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79766f"/>
                </a:solidFill>
                <a:latin typeface="Verdana"/>
              </a:rPr>
              <a:t>Funcionamiento del control de acceso al servidor y ejecución de comandos por parte de cuentas de usuari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249"/>
              </a:spcBef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9766f"/>
                </a:solidFill>
                <a:latin typeface="Verdana"/>
              </a:rPr>
              <a:t>Nivel 1: acceso al servi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249"/>
              </a:spcBef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9766f"/>
                </a:solidFill>
                <a:latin typeface="Verdana"/>
              </a:rPr>
              <a:t>Nivel 2: comprobación de privilegios de ejecución de comand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79766f"/>
                </a:solidFill>
                <a:latin typeface="Verdana"/>
              </a:rPr>
              <a:t>Efecto de los cambios de privilegio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79766f"/>
                </a:solidFill>
                <a:latin typeface="Verdana"/>
              </a:rPr>
              <a:t>Cuando tienen efecto las modificaciones de permiso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4 Conector recto"/>
          <p:cNvSpPr/>
          <p:nvPr/>
        </p:nvSpPr>
        <p:spPr>
          <a:xfrm>
            <a:off x="2071800" y="1000080"/>
            <a:ext cx="5072040" cy="180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5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1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1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1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13" end="1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15" end="1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16" end="1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" dur="1" fill="hold"/>
                                  <p:tgtEl>
                                    <p:spTgt spid="510">
                                      <p:txEl>
                                        <p:pRg st="18" end="1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74" dur="1" fill="hold"/>
                                  <p:tgtEl>
                                    <p:spTgt spid="510">
                                      <p:txEl>
                                        <p:pRg st="20" end="2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503280" y="529920"/>
            <a:ext cx="8183520" cy="5613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ctr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GESTIÓN DE RECUR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Asignar/revocar recursos a cuentas con GRANT/REVOKE y de manera manu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Limitar recursos a cuent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-Control de consultas, conexiones y actualizaciones de una cuen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-Permisos posibles sobre los distintos obje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Asignación de contraseñas a cuentas de usu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4 Conector recto"/>
          <p:cNvSpPr/>
          <p:nvPr/>
        </p:nvSpPr>
        <p:spPr>
          <a:xfrm>
            <a:off x="2071800" y="92880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7 Rectángulo"/>
          <p:cNvSpPr/>
          <p:nvPr/>
        </p:nvSpPr>
        <p:spPr>
          <a:xfrm>
            <a:off x="1571760" y="1214280"/>
            <a:ext cx="5786280" cy="714600"/>
          </a:xfrm>
          <a:prstGeom prst="rect">
            <a:avLst/>
          </a:prstGeom>
          <a:solidFill>
            <a:srgbClr val="9f2936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Verdana"/>
              </a:rPr>
              <a:t>Comandos gestión de privilegios y cuen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5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5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2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2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" dur="1" fill="hold"/>
                                  <p:tgtEl>
                                    <p:spTgt spid="512">
                                      <p:txEl>
                                        <p:pRg st="13" end="1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6 Rectángulo"/>
          <p:cNvSpPr/>
          <p:nvPr/>
        </p:nvSpPr>
        <p:spPr>
          <a:xfrm>
            <a:off x="785880" y="1214280"/>
            <a:ext cx="7715160" cy="37008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503280" y="529920"/>
            <a:ext cx="8183520" cy="5613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8d3e"/>
                </a:solidFill>
                <a:latin typeface="Verdana"/>
              </a:rPr>
              <a:t>CONEXIONES SEGURAS 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Uso del protocolo TLS para conexiones seguras al servido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Conceptos T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79766f"/>
                </a:solidFill>
                <a:latin typeface="Verdana"/>
              </a:rPr>
              <a:t>Protocolo de seguridad para criptografía de clave pública (PKI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SSL en MySQ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79766f"/>
                </a:solidFill>
                <a:latin typeface="Verdana"/>
              </a:rPr>
              <a:t>Características de MySQL que permiten el uso del protocolo T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Conexiones segu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249"/>
              </a:spcBef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79766f"/>
                </a:solidFill>
                <a:latin typeface="Verdana"/>
              </a:rPr>
              <a:t>Usando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249"/>
              </a:spcBef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79766f"/>
                </a:solidFill>
                <a:latin typeface="Verdana"/>
              </a:rPr>
              <a:t>Con entunelamiento (SS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4 Conector recto"/>
          <p:cNvSpPr/>
          <p:nvPr/>
        </p:nvSpPr>
        <p:spPr>
          <a:xfrm>
            <a:off x="2143080" y="107172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5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5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5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5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5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1" dur="1" fill="hold"/>
                                  <p:tgtEl>
                                    <p:spTgt spid="516">
                                      <p:txEl>
                                        <p:pRg st="13" end="1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152" dur="1" fill="hold"/>
                                  <p:tgtEl>
                                    <p:spTgt spid="516">
                                      <p:txEl>
                                        <p:pRg st="15" end="1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153" dur="1" fill="hold"/>
                                  <p:tgtEl>
                                    <p:spTgt spid="516">
                                      <p:txEl>
                                        <p:pRg st="16" end="1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503280" y="50004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CONEXIONES SEGURAS I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4 Conector recto"/>
          <p:cNvSpPr/>
          <p:nvPr/>
        </p:nvSpPr>
        <p:spPr>
          <a:xfrm>
            <a:off x="2071800" y="114300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"/>
          <p:cNvPicPr/>
          <p:nvPr/>
        </p:nvPicPr>
        <p:blipFill>
          <a:blip r:embed="rId1"/>
          <a:stretch/>
        </p:blipFill>
        <p:spPr>
          <a:xfrm>
            <a:off x="1857240" y="2000160"/>
            <a:ext cx="5538960" cy="2643120"/>
          </a:xfrm>
          <a:prstGeom prst="rect">
            <a:avLst/>
          </a:prstGeom>
          <a:ln w="0">
            <a:noFill/>
          </a:ln>
        </p:spPr>
      </p:pic>
      <p:sp>
        <p:nvSpPr>
          <p:cNvPr id="521" name="7 CuadroTexto"/>
          <p:cNvSpPr/>
          <p:nvPr/>
        </p:nvSpPr>
        <p:spPr>
          <a:xfrm>
            <a:off x="2214720" y="5214960"/>
            <a:ext cx="53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squema entunelamiento por s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14:39:15Z</dcterms:created>
  <dc:creator>profesor</dc:creator>
  <dc:description/>
  <dc:language>en-US</dc:language>
  <cp:lastModifiedBy>hueso</cp:lastModifiedBy>
  <dcterms:modified xsi:type="dcterms:W3CDTF">2011-06-16T00:49:13Z</dcterms:modified>
  <cp:revision>72</cp:revision>
  <dc:subject/>
  <dc:title>Diapositiva 1</dc:title>
</cp:coreProperties>
</file>