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6E55-4BDF-4BAD-866F-0F4906D5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981-92C5-44CC-AF40-1F9F5A10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15B5F-15D4-4CDD-9E8C-18ED349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A012C-1DA5-4B20-916D-60CB029B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2C1EE-9CB2-4B32-AA41-C9A3000E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75E5B-D29C-423A-92A7-299F5704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05729-55D4-4F50-AF69-5BEAAF7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1C597-993C-4BA6-A8D7-765AA08B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15733-E775-44BC-AEDD-579D2111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0E10A-4A31-4DE7-BD2F-EC2761CB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3D65D-BC15-451D-BA60-38A51C68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2F756-4F58-4375-9609-E1F2D9F9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C5C-FFE0-4219-BF25-3556F599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8D36F-2E1F-463E-BFCB-836AF92D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C2876-81FA-4C00-9D0F-185C4A57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69945-197F-49EF-BA90-F8892DB2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4608A-E7C1-4480-885C-55B7C648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89B3E-FD35-4B6B-BFF1-DA92C23F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41893-F5DB-4CAE-AF68-A4A2FA6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6C020-7FE0-4ACA-8AF8-0A1C67C2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F9C32-2B5F-4B95-A6FB-2711C89D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7E7528-0E68-4168-8F0F-9810669F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EA928-6833-4AFB-8276-61247908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C76-5949-442C-883D-677BC784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451DC-59D0-4D3F-B821-C0198322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860F9-F5E0-4FFF-A1FE-16FA0F58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881EB-5988-4A48-91E6-AA614270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388C0-0175-4C96-963D-05688BE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A71C7-1844-485A-85E1-8836F048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344C5-3D3A-4C04-AC4E-735A157B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A608B-6853-48B5-B7A7-B1DF4197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8A049-F373-4FF7-8892-8011FCD9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7843F-049D-498F-9F8E-2976BB1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81AAB-A796-4CF4-AFF3-98AAD080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9FA1-B1DD-4386-A52F-34E6DBCB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9FCBF-6F73-4916-9ED9-9EDED3D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F0426-1AAF-418E-8E30-672D214C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79C68-4CC7-4A16-A220-C7221DDF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2BE33-E9EB-4906-85F0-E7E802D1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D0B5B-BB8A-4EEE-80D7-0D15E7D9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854E8-1CBF-4C40-A16B-810746CE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E37A0-5039-4D55-94EA-25912CFB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1F3B4-EE7B-4994-B76E-CFD028A1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6F459-F651-4B7F-B5BA-D15417F9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B8878-B524-48F8-9256-CF3FBC20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471B-291B-4807-9EFD-14F98C30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47F35-A5A9-417F-811C-E8A3A2F5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7AE65-F26F-47AA-AE58-06EA68FC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45D77-9A92-4E51-9D57-CB6E904F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80371-9A17-44DD-AD5B-181E1501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88B35-4983-451F-905C-9EC8C656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0632-D3EF-41DB-A1FF-06E80312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2CED-91B9-4E9F-B30E-D85F985C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8B80-3C9F-4DD4-8087-5FA8BA0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79C1-358F-4DFD-8F6B-2417B230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8711-FF87-4200-A57E-6EF3F89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B89-3315-4B9A-8CCF-45DD839F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98F7-F056-4A3D-B232-30AEA6F8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A7BA-19E2-4DC6-BA97-251B8E0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1E2E-C320-4CF3-9239-67DF8BE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2768-8A7F-4F7F-B12B-A7B0FAA4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679-1FF6-412B-B7CA-535B5550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4479-D836-49B9-81B9-2806AF33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B468-EE04-4DE0-94E1-E4486C3C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4322-05F1-474A-B543-EE609FD8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8737-DC56-4B73-853A-20E46272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5ACC-2164-4AAD-9955-11474440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7FD4-0FB8-4C0A-A8F0-A6B35536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0E052-02FF-4952-AC70-03D5E67B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6E35A-93CB-44E5-A08C-5BE984E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3022-FA95-4EC3-A80E-2C12A4A4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CF8A-5D9C-49A1-BA65-E501CF66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38DC-CE2B-4341-81AF-63BC4225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18FD-86BC-40BB-AD1A-CD5EF80E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2B97-5BBD-4B38-9E52-8E0B9841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D125-481E-45A2-8618-C0F3D3EF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ECF9-D653-445B-A5CA-96D4B31B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1CD0-6F70-4B2B-A559-181E8637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7E4-3622-4D80-9AEC-0B5F67F7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D8A11-CBB4-487C-AE07-23F08385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A7C31-0C81-41D0-A1E4-6B06C323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0A26D-25A5-4E93-A2A4-52DE8070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0A3D-25C0-40E2-84FD-AEB57F64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B009-8CD3-450D-A95E-F43B8AB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BAB8-B6C8-4B33-8EAF-BD64612C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2BB0-FFEA-466D-BA60-039A2A83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8576E-49C6-4514-8943-2DA2B69D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7320C-314F-4995-9011-3AB1972F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B2B67-205B-48E8-8D41-3BA0E8DF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52C-62ED-4A32-A484-99F9EEA4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BD5C-8842-489D-88D2-E4797E86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F7DE-5468-4366-BDA9-34544791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03E6D-5025-45FF-B44F-A523F397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7F71-8AC8-42CA-9D44-17B6B6BC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2F2E7-0265-432F-A00D-66848464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15AC-E035-4475-A24B-4BAD5B35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BF278-BF75-4634-905F-6E50872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EF536-C6BF-4624-8CB6-A8E21779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DC980-D06A-434D-8A38-721E0884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BBEA2-7147-4C36-B5FC-B2BD4188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3B3-B2B7-4492-8133-44E2F745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ABD6D-A164-48A2-A05C-79375979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24633-6D79-42CC-8B15-B483111D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78F0-922B-4BA8-91D2-A04D242E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5819C-9B5D-46E0-89D1-08E33A64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A561-3D89-4FC7-8184-9A4AEE29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90052-D386-4C1B-9222-CAC56DFE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467B3-E9CE-48CD-9A7D-4D46B6A5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89536-C0DD-4744-A869-96BE51AA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64886-92A8-4229-B305-8D05C09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A7B7B-7660-463F-A524-407F5E44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95D-F7E4-414F-8BE2-19324BAD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BB8BB-9A67-4FF4-9F47-0B2DF9B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2EB0-E623-433B-818D-25B63B41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24380-A8E2-48E2-8743-0AFFDF70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222EC-894D-42E9-AD08-06B156B1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E2F64-0E67-45CC-B881-856DE63B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EB4F1-D28C-4FD2-9ADD-09AE51E9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DB0A-7AEC-464F-A244-6E1F7A5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A483-1412-41C7-8E5A-C6D33D5C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8B7E7-7F4E-4E64-80B3-5AC982E2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46C3F-8935-456D-9FF2-A5904DB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199-A5A1-41EA-9635-F3A4CFCA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EA1F-DBDC-4C68-9226-F36C97E4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A86D1-83DD-4050-B6D0-9321275D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FCA3-8EBB-4BAC-8FDE-DCA5844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0148A-67BF-4E67-978F-74EBA973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8EF09-B780-4E32-A488-EEA521D6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E1742-C749-47DB-AA6B-B7BEA7EB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E7F83-1937-4232-A176-9EDC5210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F771D-2EBF-4C4D-8FA0-289C9C89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1E9B-D03E-4441-A4A0-223EEBD6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80E6-FB6B-4A40-BA2D-EE9618BA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FA2-D89E-4740-B5D5-B7F4B311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DAC31-7F58-4DA4-AFAC-50F3D7A9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53A20-FB68-4971-B755-1078DB30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DADD3-6484-4F05-A5D2-EBD7D20F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BD21D-8FFC-4B5D-9572-7A4CDF06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FC147-4C01-4C53-A589-26DCD9F1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4DB71-8A5A-417C-800D-59E03508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C202C-5A16-40C6-BCDB-2F2CC570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E5445-B761-4E63-906C-855BD642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BA2AB-0AFB-4BE3-A737-D118EEF5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E0B00-63A3-4730-BE69-504494F6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5973-CD93-4F6F-9556-3EAE926EAA2F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DDBA-6E39-4E99-92AC-7DF421FC61C5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965-98A9-4780-B40C-0696FAE81647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8E1B-B364-447B-9BFC-E2E2E024799F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84BC-6097-40CA-B318-5580A4BC5448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A18A-31BF-48AB-8406-046444023F91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DD98-B393-4394-89A8-148478D6FFE8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252-8012-42B4-B068-B5A2D97ADD94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FFBA-60BE-4A9A-9CEA-D23033BE1D17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4CFB-8CB2-43FE-A53B-87D069BDA8B1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26A4-39EE-4CF4-B5C4-F1EB59C9503B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C5FD-5525-40D0-8757-68E33A59F4BD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3071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9f2936"/>
                </a:solidFill>
                <a:latin typeface="Verdana"/>
              </a:rPr>
              <a:t>Capítulo 2</a:t>
            </a:r>
            <a:br>
              <a:rPr sz="4300"/>
            </a:br>
            <a:br>
              <a:rPr sz="4300"/>
            </a:br>
            <a:r>
              <a:rPr b="1" lang="es-ES" sz="4300" spc="-1" strike="noStrike">
                <a:solidFill>
                  <a:srgbClr val="ff8d3e"/>
                </a:solidFill>
                <a:latin typeface="Verdana"/>
              </a:rPr>
              <a:t>Instalación y configuración de MySQL</a:t>
            </a:r>
            <a:endParaRPr b="1" lang="en-US" sz="43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8d3e"/>
                </a:solidFill>
                <a:latin typeface="Verdana"/>
              </a:rPr>
              <a:t>VARIABLES Y OP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Variable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Parámetros que determinan el funcionamiento del servid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Se clasifican e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Sistema / Estad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Dinámicas / Estática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Globales / De sesió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Opciones en la línea de comand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Valores de variables que se establecen junto al comando de inicio del servid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Ficheros de opc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79766f"/>
                </a:solidFill>
                <a:latin typeface="Verdana"/>
              </a:rPr>
              <a:t>Para valores que se usarán siempre que se inicie el servido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79766f"/>
                </a:solidFill>
                <a:latin typeface="Verdana"/>
              </a:rPr>
              <a:t>Comandos S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500" spc="-1" strike="noStrike">
                <a:solidFill>
                  <a:srgbClr val="79766f"/>
                </a:solidFill>
                <a:latin typeface="Verdana"/>
              </a:rPr>
              <a:t>Para modificar variables en ‘caliente’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5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5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5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5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5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5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52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52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19" end="1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7" dur="1" fill="hold"/>
                                  <p:tgtEl>
                                    <p:spTgt spid="529">
                                      <p:txEl>
                                        <p:pRg st="21" end="2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28" dur="1" fill="hold"/>
                                  <p:tgtEl>
                                    <p:spTgt spid="529">
                                      <p:txEl>
                                        <p:pRg st="23" end="2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TIPOS DE VARIABLES DE MySQL: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Gener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Variables que se usan a menu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Memoria / Cach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Relacionadas con aspectos de memoria, buffering o 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Tipo ha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Para saber si el servidor dispone de cierta carácterístic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Variables de 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Relacionadas con aspectos de servicios de r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4 Conector recto"/>
          <p:cNvSpPr/>
          <p:nvPr/>
        </p:nvSpPr>
        <p:spPr>
          <a:xfrm>
            <a:off x="2071800" y="150012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5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5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5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5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53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53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372" dur="1" fill="hold"/>
                                  <p:tgtEl>
                                    <p:spTgt spid="531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TIPOS DE VARIABLES DE MySQL: EST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Generales:</a:t>
            </a: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Variables que conviene consult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Com: 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Cuentan operaciones SQ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Handler:</a:t>
            </a: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Cuentan operaciones de lectura escritu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InnoDB:</a:t>
            </a: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para tablas tipo InnoD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Key: 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número de operaciones que involucran índ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Qcache: 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Número de operaciones sobre la cache de consul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ssl: 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aspectos relacionados con la segurid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Threads: 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conexiones de clien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4 Conector recto"/>
          <p:cNvSpPr/>
          <p:nvPr/>
        </p:nvSpPr>
        <p:spPr>
          <a:xfrm>
            <a:off x="2071800" y="1357200"/>
            <a:ext cx="5072040" cy="1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5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5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5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5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4" dur="1" fill="hold"/>
                                  <p:tgtEl>
                                    <p:spTgt spid="533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OMANDOS GESTIÓN DE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onsulta: SH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Muestran distintos valores de variables tanto de estado como de siste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Modificación: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Permiten la modificación de variables dinámicas en tiempo de ejecución del servid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5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53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  <p:animClr clrSpc="rgb">
                                <p:cBhvr>
                                  <p:cTn id="448" dur="1" fill="hold"/>
                                  <p:tgtEl>
                                    <p:spTgt spid="53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DICCIONARIO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Información relativa a todos los objetos de las bases de datos gestionadas por el SGB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79766f"/>
                </a:solidFill>
                <a:latin typeface="Verdana"/>
              </a:rPr>
              <a:t>Para MySQL dicha información se recoge en las tablas de la base INFORMATION_SCHEMA como la tabla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-TABLES con información sobre las tablas de la base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-USER_PRIVILEGES con información de los privilegios de cada cuenta del sist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FICHEROS DE REGISTRO (LO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Registro de err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Errores producidos en el inicio, funcionamiento o apagado del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Registro general de consul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De todas las instrucciones SQ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Registro bi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Instrucciones SQL que modifican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Registro de consultas l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Registro de consultas que tardan más de cierto tiempo (long_query_time) en ejecutars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  <p:animClr clrSpc="rgb"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8b8b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ÍNDICE CAPITULO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Arquitectura MySQ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Instalación de MySQ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Configuración del servid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Estructura del diccionario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Ficheros lo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508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4 Conector recto"/>
          <p:cNvSpPr/>
          <p:nvPr/>
        </p:nvSpPr>
        <p:spPr>
          <a:xfrm>
            <a:off x="2143080" y="78588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6 Rectángulo"/>
          <p:cNvSpPr/>
          <p:nvPr/>
        </p:nvSpPr>
        <p:spPr>
          <a:xfrm>
            <a:off x="242892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Arial"/>
              </a:rPr>
              <a:t>SERVIDOR My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7 Rectángulo"/>
          <p:cNvSpPr/>
          <p:nvPr/>
        </p:nvSpPr>
        <p:spPr>
          <a:xfrm>
            <a:off x="928800" y="1654560"/>
            <a:ext cx="6858000" cy="398880"/>
          </a:xfrm>
          <a:prstGeom prst="rect">
            <a:avLst/>
          </a:prstGeom>
          <a:solidFill>
            <a:srgbClr val="9f2936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oftware para la gestión de bases de datos rel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8 Rectángulo"/>
          <p:cNvSpPr/>
          <p:nvPr/>
        </p:nvSpPr>
        <p:spPr>
          <a:xfrm>
            <a:off x="928800" y="2572200"/>
            <a:ext cx="6858000" cy="398880"/>
          </a:xfrm>
          <a:prstGeom prst="rect">
            <a:avLst/>
          </a:prstGeom>
          <a:solidFill>
            <a:srgbClr val="9f2936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ispone en versión libre y gratu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9 Rectángulo"/>
          <p:cNvSpPr/>
          <p:nvPr/>
        </p:nvSpPr>
        <p:spPr>
          <a:xfrm>
            <a:off x="928800" y="4286880"/>
            <a:ext cx="6858000" cy="398880"/>
          </a:xfrm>
          <a:prstGeom prst="rect">
            <a:avLst/>
          </a:prstGeom>
          <a:solidFill>
            <a:srgbClr val="9f2936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ncorpora soporte para replicación y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10 Rectángulo"/>
          <p:cNvSpPr/>
          <p:nvPr/>
        </p:nvSpPr>
        <p:spPr>
          <a:xfrm>
            <a:off x="928800" y="3358080"/>
            <a:ext cx="6858000" cy="398880"/>
          </a:xfrm>
          <a:prstGeom prst="rect">
            <a:avLst/>
          </a:prstGeom>
          <a:solidFill>
            <a:srgbClr val="9f2936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multihilo, soporta múltiples conex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503280" y="529920"/>
            <a:ext cx="8183520" cy="1531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ARQUITECTURA MySQ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12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1114560" y="1344600"/>
            <a:ext cx="702936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NSTALACIÓN MySQL 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Cuestiones generales antes de la insta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Platafor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Integr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Form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519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INSTALACIÓN MySQL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Instalación en Wind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ambios en el regis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Modificaciones en el 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557280">
              <a:buClr>
                <a:srgbClr val="ed374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ambios en el sistema de fiche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52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8d3e"/>
                </a:solidFill>
                <a:latin typeface="Verdana"/>
              </a:rPr>
              <a:t>CONFIGURACIÓN MySQL 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Configuración/reconfigur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Para el caso en que haya una instalación preexistente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Tipo de configur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Detallada o estánd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Tipo de servid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Según la carga previ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Tipo de base de dat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Según el tipo de operaciones que va a soport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79766f"/>
                </a:solidFill>
                <a:latin typeface="Verdana"/>
              </a:rPr>
              <a:t>Espacio InnoDB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79766f"/>
                </a:solidFill>
                <a:latin typeface="Verdana"/>
              </a:rPr>
              <a:t>Para tablas de tipo transaccion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2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2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523">
                                      <p:txEl>
                                        <p:pRg st="19" end="1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76" dur="1" fill="hold"/>
                                  <p:tgtEl>
                                    <p:spTgt spid="523">
                                      <p:txEl>
                                        <p:pRg st="21" end="2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CONFIGURACIÓN MySQL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Conexiones concurrent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Número de conexiones simultáneas permitida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Red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Permitir conexiones desde equipos remo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Conjunto de caracter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Juego de caracteres que incopora el servid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Opciones de servici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Incluir o no el servidor como un servicio de Window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Opciones de segurida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Usuarios y contraseñas inici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79766f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4 Conector recto"/>
          <p:cNvSpPr/>
          <p:nvPr/>
        </p:nvSpPr>
        <p:spPr>
          <a:xfrm>
            <a:off x="2143080" y="128592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5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52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2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525">
                                      <p:txEl>
                                        <p:pRg st="20" end="2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30" dur="1" fill="hold"/>
                                  <p:tgtEl>
                                    <p:spTgt spid="525">
                                      <p:txEl>
                                        <p:pRg st="22" end="2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POSTINSTALACIÓN MySQ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Arranque y pa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Comandos para iniciar/detener el servid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rear servicio MySQL en el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Inicio automático en Windows/Linu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Conexión desde cliente y comprobaciones inici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79766f"/>
                </a:solidFill>
                <a:latin typeface="Verdana"/>
              </a:rPr>
              <a:t>Uso de programa cliente mysql para conexión al servid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3" dur="1" fill="hold"/>
                                  <p:tgtEl>
                                    <p:spTgt spid="52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  <p:animClr clrSpc="rgb">
                                <p:cBhvr>
                                  <p:cTn id="264" dur="1" fill="hold"/>
                                  <p:tgtEl>
                                    <p:spTgt spid="527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3ded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9:15Z</dcterms:created>
  <dc:creator>profesor</dc:creator>
  <dc:description/>
  <dc:language>en-US</dc:language>
  <cp:lastModifiedBy>hueso</cp:lastModifiedBy>
  <dcterms:modified xsi:type="dcterms:W3CDTF">2011-06-16T00:39:25Z</dcterms:modified>
  <cp:revision>63</cp:revision>
  <dc:subject/>
  <dc:title>Diapositiva 1</dc:title>
</cp:coreProperties>
</file>