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256-0F97-4639-8155-8F873FF5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E38-41A4-429B-93CB-D92C1822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0A550-0F42-43D8-A011-49AB25F6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9F9BF-0CCF-4DC7-8D1B-6F0B1045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7FAD1-9A9B-4AD0-B851-B38CBB84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96390-C967-41E6-9EF4-A1392156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B37DA-9540-44C2-B8E5-F5AE246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660B1-5669-45B2-8894-8EA97662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CC2B6-8F25-4057-8173-ED7610F5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AE37E-D0FB-420B-B8FA-EA471424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97908-2D7D-4BA9-86C0-D395FBDA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3B380-DC64-4D19-AAB5-34693DC4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417-38F1-493D-A7D8-0B8FAA29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5720F-0E75-4647-BE19-493B969A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64485-5C50-4F53-9962-BA7F82C3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706BF-B6B8-4BD8-AD78-F71ECA9C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F51B8-7BA3-40D6-B30B-83C7C0D1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07920-3624-474C-B88F-7A724FDC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28C68-BC0C-481D-9556-35D36024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9AC3A-C43A-4607-A905-7FA53412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F67EF-72D6-4841-B718-90662F82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0B8FB-AAB7-4190-933F-C5E13298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CDF9C-F97E-46DD-8238-AEEE4185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5A6-E226-4331-BD33-6EE1429D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8F099-FA52-48EE-9A47-CB07E183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F5EEB-C71C-44F3-981F-53721A5C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EE9D1-3382-4A4B-9FC0-C6A16F02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DD7BE-97E0-49E0-A123-61E8568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8691B-A9FB-49C4-99DB-662F6398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83A32-321F-4A65-B0EB-2619559C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8E42F-56BE-479C-8F8C-A9A7F2E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0D921-2DD3-4D26-8C90-614E910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CDC2D-18EB-495C-A522-D7BF553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2CDDF-E33D-4C41-A72C-84235A6D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57D2-A6C3-4BB1-844F-AA192ACA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2EB65-7ED4-47B4-995B-920EDD8C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B90F9-F250-4984-8B0F-228AD12E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F531F-9CE2-4B58-862F-0AD78DDB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C04A4-00CF-4E0B-A8E1-5217CFC1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FB19C-41BE-4FC3-B853-79A01174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585AF-808B-435D-BD00-1B427B77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286F3-B4B2-450A-905A-9073889B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FC7EE-0F12-46BC-9E35-66C28723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2F33A-D457-4730-9EF2-2E938EA1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283C0-2607-4A6A-A895-BA96B00A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8701-3802-47F7-91AE-59DD4DF7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64A13-F6BD-496F-91DF-6D91D1DF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170A7-160B-4AFE-84E0-1CAB0E33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D4F01-5191-408C-9BE8-51F7773D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479DC-F4CE-4CCB-8647-AF637DA7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B3D42-70BF-4BBF-BAD1-DFBD1072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38A8-B720-4A94-A6CC-F6ABA699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0C6F-2297-44AE-A75F-1214F43D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C59E-DF20-4B82-B288-F20E0B33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534E-D912-47C0-A975-C2CD55AB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0B3-9B36-4FE4-9E7B-ED42AD4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85F-6C3E-4AD1-84E0-FCAE1F46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A279-EDA5-491C-808D-DEE64C25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7C89-BECF-42BA-A7D5-CC58085B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518-C321-4733-A92B-BE713701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215D-726A-4D35-9A03-5B61A8EF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8FFE-D776-4000-8F72-DCC1A826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B6D5-E5D2-437C-BAC5-5152EA9E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E5951-78C6-4422-BB74-25717302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7FF9-CA47-429C-9537-E389B1AA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F5A5-E07E-492E-A327-90BDAFCD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9761-F6F9-4312-8867-D16D1827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A80-5822-4256-B3AF-C6502607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1C820-6D96-4B60-9AD3-4448F18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DD94-BBFE-4500-A052-7B34099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22EA-10A8-4638-BA55-C4856A72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5E20-9F11-44A4-A069-A34B09A3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B07E-7725-41B5-A15B-746B110D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DF7F-251B-4B3E-BD9B-7B9CF7AB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FC04-BAD7-40D0-907E-C8F3363E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528F7-C484-448D-9924-9983531F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530F9-51C6-4ACB-BB70-4FED9164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D255-2270-46CF-80FA-07B761ED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CD5-C948-4634-888A-1EBF6A3C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3B41A-6E22-4727-A6E5-DC7851D1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8DADD-06BF-4F16-A067-8CB669C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D588-3BE4-43E6-B58F-16E5A6DA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01B0-10E7-4D5A-8AC6-44E164A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3F11-5D6D-4D52-9685-46F664BB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B4FF4-0A98-493B-AA82-81FC18D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EC68-C716-4789-A781-E89F7120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2F344-0306-416C-B911-658A1764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C888-7883-43FF-AA7C-C8B98AF9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1FC69-0B5D-4FFA-A09B-DC73A812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416-B4F4-49EE-9A78-27311EE0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522C-9FFA-4B48-842B-7FFEFDB5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A5F7-A6D7-470A-8FB7-A12513A6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C20FA-0FF9-42AA-B1AC-D773B089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F872-1A55-47A0-89FE-2A958E7E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42489-415E-4155-9296-302A031C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258C-21D2-4F66-8D35-32A32DC0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CA828-973D-4324-B369-DB51A0C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358A-89FD-4D94-9466-0BDFF471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9A45-D3C8-4AA4-859D-98C19984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BA28-7457-4888-8A3E-4E9E2208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BEB-6EA0-4367-928F-20162F86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7326C-3545-4926-AD9E-EA8905A8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9F75F-426D-4A04-B458-8B5592C8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E617D-BBF4-4650-A12E-54D9A3F8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BCAD5-1847-43B4-9DDD-7884CC32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21EA-13F7-45CA-9FFF-0B1D9CE0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B00C-FAD2-4AAF-93B5-0A4C67F6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534A0-19F9-404B-BD3C-3930C5AD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6963-8118-4ADA-B315-EDA8C3A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CB995-9A8A-42B1-8F25-82364EBD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E46F-6A07-408D-A65B-A0C24E3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CA8-78BF-4682-ABA6-C28C8A6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9C5C-3EC4-411B-B471-4E2B5979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5D927-5DB4-483D-9C0F-5A1F5E77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5F727-AD91-455C-ABAE-9A672A9B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215F1-CD7B-4A5C-8C22-D64691BE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0B38-449B-4E9C-A868-656D940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F9DD9-AFF3-4ADF-9AB0-8CC3775F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3B214-9F45-4B1F-B479-D7F5EE9C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79D68-0833-4E90-9CC8-433E185E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0E456-5575-42E6-8601-29E37594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5964C-D87F-4B43-8F11-AB7A3725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2DA-A5B0-4706-A6AB-76CF2C21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8537-E6D4-4822-8B88-30052B7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19A38-13BC-4A86-80C0-E272BC18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33B0E-FBB9-4605-8857-781D295F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B885B-CB9A-42D5-A098-3F2A2BD4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45A7-CE60-4D43-B025-056A6633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A7EA2-0140-4E16-A7E0-1FDC00DD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FED15-7FC7-4B46-A58D-2C9B16CC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8D0A1-6795-4A3E-8364-EAAE69E8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F18A2-9CAB-4B0A-A2DF-A0E72F08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C9649-32C7-4777-BAD7-BEEFD2D5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02D-E12F-46BE-9B9E-DDF4E4B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04548-53B3-4136-8F02-C13D9E95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0CA3A-CBEE-4529-B7F9-EA35B40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CBA28-3AF1-4DEE-A08A-D5AFCE0B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72F0F-7D8E-43F0-9401-9A595A45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95274-EB8D-46CB-A494-7AAFB18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A0187-51C6-43C1-BA95-31EAD4A1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3599A-9EAC-4009-9C45-1C45BF41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94785-3EFB-46C7-BFFD-4A74F7DF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461A7-AE9E-450F-9205-77965AD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790F9-A234-40E4-880E-035AB182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5878-26FF-4157-822F-EE607AB124DF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913-103E-4850-A3F0-30850937807E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008C-5BDA-4319-AFBD-81DD6A430F53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CB11-3310-4B6F-B928-3D38574A354F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122D-7670-4991-892B-BAB6E12F0073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2CA3-6FED-4DF4-8260-6B384E14B1FE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D67F-E2C6-4A63-B1FA-046A10D63BCB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8A6D-0546-48EF-AF51-210D312BA263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454D-442D-455E-A5D8-A9667AD7DB1E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1743-E4FE-4410-85C4-4D214423BA89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B4FF-A77E-4E0D-90EF-528107CF73C4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5D9E-5058-43A5-A1C3-D3A2CE9C71EB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4240" y="928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9f2936"/>
                </a:solidFill>
                <a:latin typeface="Verdana"/>
              </a:rPr>
              <a:t>Capítulo 4</a:t>
            </a:r>
            <a:br>
              <a:rPr sz="4100"/>
            </a:br>
            <a:br>
              <a:rPr sz="4100"/>
            </a:br>
            <a:r>
              <a:rPr b="1" lang="es-ES" sz="4100" spc="-1" strike="noStrike">
                <a:solidFill>
                  <a:srgbClr val="ff8d3e"/>
                </a:solidFill>
                <a:latin typeface="Verdana"/>
              </a:rPr>
              <a:t>Automatización de tareas, construcción de guiones de administración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SQL EN RUTINAS: CURSO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8 CuadroTexto"/>
          <p:cNvSpPr/>
          <p:nvPr/>
        </p:nvSpPr>
        <p:spPr>
          <a:xfrm>
            <a:off x="500040" y="1357200"/>
            <a:ext cx="7358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Cur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Objeto que hace referencia a un conjunto de datos obtenidos de una consul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Comandos de cursores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OPEN:  Abre el cursor o sus filas asoci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FETCH: Extrae la siguiente fila de un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CLOSE: Cierra el cur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5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1" dur="1" fill="hold"/>
                                  <p:tgtEl>
                                    <p:spTgt spid="5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52" dur="1" fill="hold"/>
                                  <p:tgtEl>
                                    <p:spTgt spid="5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53" dur="1" fill="hold"/>
                                  <p:tgtEl>
                                    <p:spTgt spid="5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54" dur="1" fill="hold"/>
                                  <p:tgtEl>
                                    <p:spTgt spid="53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55" dur="1" fill="hold"/>
                                  <p:tgtEl>
                                    <p:spTgt spid="5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MANEJO DE ERRO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8 CuadroTexto"/>
          <p:cNvSpPr/>
          <p:nvPr/>
        </p:nvSpPr>
        <p:spPr>
          <a:xfrm>
            <a:off x="500040" y="1357200"/>
            <a:ext cx="735804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Manejador o Hand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Objeto que permite tomar cierta acción ante ciertos errores de program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Sint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766f"/>
                </a:solidFill>
                <a:latin typeface="Verdana"/>
              </a:rPr>
              <a:t>DECLARE {CONTINUE | EXIT} HANDLER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{SQLSTATE sqlstate_code| MySQL error code| condition_name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handler_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TI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79766f"/>
                </a:solidFill>
                <a:latin typeface="Verdana"/>
              </a:rPr>
              <a:t>Exit: terminación del progr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400" spc="-1" strike="noStrike">
                <a:solidFill>
                  <a:srgbClr val="79766f"/>
                </a:solidFill>
                <a:latin typeface="Verdana"/>
              </a:rPr>
              <a:t>Continue: se continua el programa en el punto en que se llamó al manej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9" dur="1" fill="hold"/>
                                  <p:tgtEl>
                                    <p:spTgt spid="53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00" dur="1" fill="hold"/>
                                  <p:tgtEl>
                                    <p:spTgt spid="53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01" dur="1" fill="hold"/>
                                  <p:tgtEl>
                                    <p:spTgt spid="539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5 Rectángulo"/>
          <p:cNvSpPr/>
          <p:nvPr/>
        </p:nvSpPr>
        <p:spPr>
          <a:xfrm>
            <a:off x="571680" y="1428840"/>
            <a:ext cx="8429400" cy="12142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TRIGGE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8 CuadroTexto"/>
          <p:cNvSpPr/>
          <p:nvPr/>
        </p:nvSpPr>
        <p:spPr>
          <a:xfrm>
            <a:off x="500040" y="1357200"/>
            <a:ext cx="86439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o función formado por sentencias SQL que se ejecuta ante operaciones sobre las tablas de las bas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(Por ejemplo si queremos computar de forma automática el número de partidos ganados de un equi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Coman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CREATE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DROP 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CONSULTA: SHOW TRIGGER, INFORMATION_SCHEMA.TRI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Control s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Control valor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Campos deriv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Estad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79766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Registro y audit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5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5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5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5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5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4" dur="1" fill="hold"/>
                                  <p:tgtEl>
                                    <p:spTgt spid="54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55" dur="1" fill="hold"/>
                                  <p:tgtEl>
                                    <p:spTgt spid="54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56" dur="1" fill="hold"/>
                                  <p:tgtEl>
                                    <p:spTgt spid="54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57" dur="1" fill="hold"/>
                                  <p:tgtEl>
                                    <p:spTgt spid="54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58" dur="1" fill="hold"/>
                                  <p:tgtEl>
                                    <p:spTgt spid="54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59" dur="1" fill="hold"/>
                                  <p:tgtEl>
                                    <p:spTgt spid="543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5 Rectángulo"/>
          <p:cNvSpPr/>
          <p:nvPr/>
        </p:nvSpPr>
        <p:spPr>
          <a:xfrm>
            <a:off x="500040" y="1357200"/>
            <a:ext cx="7358040" cy="857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VIST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8 CuadroTexto"/>
          <p:cNvSpPr/>
          <p:nvPr/>
        </p:nvSpPr>
        <p:spPr>
          <a:xfrm>
            <a:off x="500040" y="1357200"/>
            <a:ext cx="7358040" cy="47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Objetos que hacen referencia a un subconjunto de datos de la base de datos obtenido mediante una con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Coman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CREAT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ALTER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DROP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SHOW CREAT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Courier New"/>
                <a:ea typeface="Courier New"/>
              </a:rPr>
              <a:t>DELIMITER 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Courier New"/>
                <a:ea typeface="Courier New"/>
              </a:rPr>
              <a:t>CREATE ALGORITHM=MERGE view vdatos_jugador as SELECT * FROM jugador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Courier New"/>
                <a:ea typeface="Courier New"/>
              </a:rPr>
              <a:t>id_jugador=identificador_jugador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5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5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5 Rectángulo"/>
          <p:cNvSpPr/>
          <p:nvPr/>
        </p:nvSpPr>
        <p:spPr>
          <a:xfrm>
            <a:off x="571680" y="1428840"/>
            <a:ext cx="7072200" cy="11430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EVENTOS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8 CuadroTexto"/>
          <p:cNvSpPr/>
          <p:nvPr/>
        </p:nvSpPr>
        <p:spPr>
          <a:xfrm>
            <a:off x="500040" y="1357200"/>
            <a:ext cx="735804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ódigo que se ejecuta en cierto momento del tiempo o con una frecuencia 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Por ejemplo cada mes se puede reparar una tabla o enviar sus datos a un fich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Coman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CREAT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ALTE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SHOW EVENT, </a:t>
            </a:r>
            <a:r>
              <a:rPr b="0" lang="es-ES" sz="1800" spc="-1" strike="noStrike">
                <a:solidFill>
                  <a:srgbClr val="79766f"/>
                </a:solidFill>
                <a:latin typeface="Arial"/>
              </a:rPr>
              <a:t>INFORMATION_SCHEMA.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f293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DROP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5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EVENTOS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8 CuadroTexto"/>
          <p:cNvSpPr/>
          <p:nvPr/>
        </p:nvSpPr>
        <p:spPr>
          <a:xfrm>
            <a:off x="500040" y="1428840"/>
            <a:ext cx="735804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EJEMPLO: bonificación cuentas dadas de alta hace menos de un mes desde la fech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Courier New"/>
                <a:ea typeface="Courier New"/>
              </a:rPr>
              <a:t>DELIMITER $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Courier New"/>
                <a:ea typeface="Courier New"/>
              </a:rPr>
              <a:t>CREATE EVENT bonificac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9766f"/>
                </a:solidFill>
                <a:latin typeface="Courier New"/>
                <a:ea typeface="Courier New"/>
              </a:rPr>
              <a:t>ON SCHEDULE AT CURRENT_TIMESTAMP + INTERVAL 1 MO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Courier New"/>
                <a:ea typeface="Courier New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Courier New"/>
                <a:ea typeface="Courier New"/>
              </a:rPr>
              <a:t>UPDATE ebanca.cliente SET saldo = saldo + 100 WHERE fecha_creacion between now() </a:t>
            </a:r>
            <a:r>
              <a:rPr b="0" lang="en-US" sz="2200" spc="-1" strike="noStrike">
                <a:solidFill>
                  <a:srgbClr val="79766f"/>
                </a:solidFill>
                <a:latin typeface="Courier New"/>
                <a:ea typeface="Courier New"/>
              </a:rPr>
              <a:t>AND date_add(now(),interval -1 month);$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ÍNDICE CAPITULO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Introducción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Procedimientos y funcion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Disparadores o Trigger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Vista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Evento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50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5 Rectángulo"/>
          <p:cNvSpPr/>
          <p:nvPr/>
        </p:nvSpPr>
        <p:spPr>
          <a:xfrm>
            <a:off x="571680" y="3929040"/>
            <a:ext cx="7215120" cy="500040"/>
          </a:xfrm>
          <a:prstGeom prst="rect">
            <a:avLst/>
          </a:prstGeom>
          <a:solidFill>
            <a:srgbClr val="9f293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3 Rectángulo"/>
          <p:cNvSpPr/>
          <p:nvPr/>
        </p:nvSpPr>
        <p:spPr>
          <a:xfrm>
            <a:off x="642960" y="1428840"/>
            <a:ext cx="6715080" cy="428400"/>
          </a:xfrm>
          <a:prstGeom prst="rect">
            <a:avLst/>
          </a:prstGeom>
          <a:solidFill>
            <a:srgbClr val="9f293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INTRODUCCIÓN 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ministrar implica realizar tar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-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Muy numero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-Muy varia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-Repeti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-Que afectan a usuarios disti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-Muy tedios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i no se hace bien el resultado impl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-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Gran probabilidad de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-Mucho tiempo invert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-Gran dificultad en mig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-Mantenimiento compli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4 Conector recto"/>
          <p:cNvSpPr/>
          <p:nvPr/>
        </p:nvSpPr>
        <p:spPr>
          <a:xfrm>
            <a:off x="2071800" y="100008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51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3 Rectángulo"/>
          <p:cNvSpPr/>
          <p:nvPr/>
        </p:nvSpPr>
        <p:spPr>
          <a:xfrm>
            <a:off x="714240" y="1428840"/>
            <a:ext cx="7929720" cy="1000080"/>
          </a:xfrm>
          <a:prstGeom prst="rect">
            <a:avLst/>
          </a:prstGeom>
          <a:solidFill>
            <a:srgbClr val="9f293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NTRODUCCIÓN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ra minimizar estos problemas surge la automatización de t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-Mediante herramientas incorporadas en el propio SGB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-Mediante herramientas y lenguajes de programación de tercer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4 Conector recto"/>
          <p:cNvSpPr/>
          <p:nvPr/>
        </p:nvSpPr>
        <p:spPr>
          <a:xfrm>
            <a:off x="2071800" y="121428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5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42960" y="785520"/>
            <a:ext cx="8043840" cy="2684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ctr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8d3e"/>
                </a:solidFill>
                <a:latin typeface="Verdana"/>
              </a:rPr>
              <a:t>RUTINAS ALMACENADAS 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Permiten añadir funcionalidad al SGB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Esquema general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4 Conector recto"/>
          <p:cNvSpPr/>
          <p:nvPr/>
        </p:nvSpPr>
        <p:spPr>
          <a:xfrm>
            <a:off x="2071800" y="10717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7 Rectángulo"/>
          <p:cNvSpPr/>
          <p:nvPr/>
        </p:nvSpPr>
        <p:spPr>
          <a:xfrm>
            <a:off x="1571760" y="1214280"/>
            <a:ext cx="5786280" cy="571680"/>
          </a:xfrm>
          <a:prstGeom prst="rect">
            <a:avLst/>
          </a:prstGeom>
          <a:solidFill>
            <a:srgbClr val="9f293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Son los llamados procedimientos y fun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6" descr=""/>
          <p:cNvPicPr/>
          <p:nvPr/>
        </p:nvPicPr>
        <p:blipFill>
          <a:blip r:embed="rId1"/>
          <a:stretch/>
        </p:blipFill>
        <p:spPr>
          <a:xfrm>
            <a:off x="2428920" y="3286080"/>
            <a:ext cx="373392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6 Rectángulo"/>
          <p:cNvSpPr/>
          <p:nvPr/>
        </p:nvSpPr>
        <p:spPr>
          <a:xfrm>
            <a:off x="714240" y="1215000"/>
            <a:ext cx="6997680" cy="3682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jemplo creación de rutina ‘hola_mundo()’ con Workb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4 Conector recto"/>
          <p:cNvSpPr/>
          <p:nvPr/>
        </p:nvSpPr>
        <p:spPr>
          <a:xfrm>
            <a:off x="2071800" y="85716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"/>
          <p:cNvPicPr/>
          <p:nvPr/>
        </p:nvPicPr>
        <p:blipFill>
          <a:blip r:embed="rId1"/>
          <a:stretch/>
        </p:blipFill>
        <p:spPr>
          <a:xfrm>
            <a:off x="1428840" y="2071800"/>
            <a:ext cx="5843520" cy="3286080"/>
          </a:xfrm>
          <a:prstGeom prst="rect">
            <a:avLst/>
          </a:prstGeom>
          <a:ln w="0">
            <a:noFill/>
          </a:ln>
        </p:spPr>
      </p:pic>
      <p:sp>
        <p:nvSpPr>
          <p:cNvPr id="524" name="5 Rectángulo"/>
          <p:cNvSpPr/>
          <p:nvPr/>
        </p:nvSpPr>
        <p:spPr>
          <a:xfrm>
            <a:off x="3014280" y="3571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8d3e"/>
                </a:solidFill>
                <a:latin typeface="Arial"/>
              </a:rPr>
              <a:t>RUTINAS ALMACENADAS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PARÁMETROS Y VARIABLES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8 CuadroTexto"/>
          <p:cNvSpPr/>
          <p:nvPr/>
        </p:nvSpPr>
        <p:spPr>
          <a:xfrm>
            <a:off x="500040" y="1571760"/>
            <a:ext cx="7358040" cy="33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Parámetros de una rutin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179360" indent="-264960">
              <a:lnSpc>
                <a:spcPct val="10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Tipos de parámetros: IN, OUT, IN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Variables en una rutin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179360" indent="-264960">
              <a:lnSpc>
                <a:spcPct val="10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79360" indent="-264960">
              <a:lnSpc>
                <a:spcPct val="10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Alcanc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5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68" dur="1" fill="hold"/>
                                  <p:tgtEl>
                                    <p:spTgt spid="5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69" dur="1" fill="hold"/>
                                  <p:tgtEl>
                                    <p:spTgt spid="5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NSTRUCCIONES CONDIC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8 CuadroTexto"/>
          <p:cNvSpPr/>
          <p:nvPr/>
        </p:nvSpPr>
        <p:spPr>
          <a:xfrm>
            <a:off x="500040" y="1357200"/>
            <a:ext cx="735804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IF expr1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ELSEIF expr2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CASE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WHEN value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[WHEN value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..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[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…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END CA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5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5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5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5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53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53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530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530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530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46" dur="1" fill="hold"/>
                                  <p:tgtEl>
                                    <p:spTgt spid="530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47" dur="1" fill="hold"/>
                                  <p:tgtEl>
                                    <p:spTgt spid="530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48" dur="1" fill="hold"/>
                                  <p:tgtEl>
                                    <p:spTgt spid="530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49" dur="1" fill="hold"/>
                                  <p:tgtEl>
                                    <p:spTgt spid="530">
                                      <p:txEl>
                                        <p:pRg st="19" end="1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NSTRUCCIONES REPETITIVAS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8 CuadroTexto"/>
          <p:cNvSpPr/>
          <p:nvPr/>
        </p:nvSpPr>
        <p:spPr>
          <a:xfrm>
            <a:off x="500040" y="1357200"/>
            <a:ext cx="735804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Simple loop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[etiqueta:]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instru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END LO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[etiqueta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Repeat until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[etiqueta:]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instru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UNTIL expr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END REPEAT [etiquet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07f0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Arial"/>
              </a:rPr>
              <a:t>Whi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[etiqueta:] WHILE expression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instru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END WHILE [etiquet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5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5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5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5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5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533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13" dur="1" fill="hold"/>
                                  <p:tgtEl>
                                    <p:spTgt spid="533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533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533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9:15Z</dcterms:created>
  <dc:creator>profesor</dc:creator>
  <dc:description/>
  <dc:language>en-US</dc:language>
  <cp:lastModifiedBy>hueso</cp:lastModifiedBy>
  <dcterms:modified xsi:type="dcterms:W3CDTF">2011-06-16T01:11:35Z</dcterms:modified>
  <cp:revision>107</cp:revision>
  <dc:subject/>
  <dc:title>Diapositiva 1</dc:title>
</cp:coreProperties>
</file>