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35A9-330E-4453-BAB1-0E1F3FA0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14C-3B45-43F1-BC58-E037DA2F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74A-1D11-4EBF-BA7E-F4DF650C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948-A64F-456E-856E-5567BA3F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AFB2-F04B-41AA-BA44-658C32F9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E616-1450-4BF2-8E0C-90E145F1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E63-B415-474E-B3CA-01F41E2D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5246-54D6-4B6E-9382-FFF67558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4C7-4E42-4EE4-BB8B-57037026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A77-5467-495D-817D-D11032A2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731B-D687-49FD-87DF-EBB07B28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92A-74CF-4ACA-9BBF-9BCCCCDD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58CB-2505-402B-833D-B77C67DF3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eactos.org/es/about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8480" cy="1989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241880" y="30492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4250160"/>
            <a:ext cx="861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act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® es un avanzado sistema operativo gratuito de código abierto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que provee una implementación creada de cero de un sistema operativo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compatible con Microsoft Windows® XP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ReactOS tiene como meta lograr compatibilidad binaria con aplicaciones y drivers de dispositivos para sistemas NT (XP, 2003) usando una arquitectura similar y proveyendo una interfaz pública completa y equival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181480"/>
            <a:ext cx="8382240" cy="520560"/>
          </a:xfrm>
          <a:prstGeom prst="rect">
            <a:avLst/>
          </a:prstGeom>
          <a:solidFill>
            <a:srgbClr val="d8d2c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a ISO ocupa 37MB  la instalación ocupa 25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8480" cy="198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6840" y="3505320"/>
            <a:ext cx="84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Arial"/>
              </a:rPr>
              <a:t>¿Podemos tener un SO totalmente lib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reactOS – OpenOffice – FireF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19920" y="4654440"/>
            <a:ext cx="3124080" cy="2203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2800" y="2514600"/>
            <a:ext cx="56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¿Qué repercusiones tie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ulio</cp:lastModifiedBy>
  <dcterms:modified xsi:type="dcterms:W3CDTF">2010-10-06T05:55:2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